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wmf" ContentType="image/x-wmf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2.png" ContentType="image/png"/>
  <Override PartName="/ppt/media/image7.wmf" ContentType="image/x-wmf"/>
  <Override PartName="/ppt/media/image9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</p:sldIdLst>
  <p:sldSz cx="9144000" cy="6858000"/>
  <p:notesSz cx="90281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0"/>
            <a:ext cx="90288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917880" cy="333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dt" idx="4"/>
          </p:nvPr>
        </p:nvSpPr>
        <p:spPr>
          <a:xfrm>
            <a:off x="5109840" y="0"/>
            <a:ext cx="3917880" cy="333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ftr" idx="5"/>
          </p:nvPr>
        </p:nvSpPr>
        <p:spPr>
          <a:xfrm>
            <a:off x="-360" y="6524640"/>
            <a:ext cx="3917880" cy="333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sldNum" idx="6"/>
          </p:nvPr>
        </p:nvSpPr>
        <p:spPr>
          <a:xfrm>
            <a:off x="5109840" y="6524640"/>
            <a:ext cx="3917880" cy="333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  <a:defRPr b="0" i="1" lang="es-E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fld id="{B5F0F550-B206-4F58-B3E5-D67C6EAEDF35}" type="slidenum">
              <a:rPr b="0" i="1" lang="es-ES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Img"/>
          </p:nvPr>
        </p:nvSpPr>
        <p:spPr>
          <a:xfrm>
            <a:off x="2846520" y="523800"/>
            <a:ext cx="3333600" cy="250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4419"/>
                </a:solidFill>
                <a:latin typeface="Optima"/>
              </a:rPr>
              <a:t>Click to move the slide</a:t>
            </a:r>
            <a:endParaRPr b="1" lang="en-US" sz="3200" spc="-1" strike="noStrike">
              <a:solidFill>
                <a:srgbClr val="6b4419"/>
              </a:solidFill>
              <a:latin typeface="Opti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 type="body"/>
          </p:nvPr>
        </p:nvSpPr>
        <p:spPr>
          <a:xfrm>
            <a:off x="1189080" y="3190680"/>
            <a:ext cx="6649920" cy="30956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5110200" y="6524640"/>
            <a:ext cx="39178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fld id="{19B7F0B9-A837-4CAF-96C7-2E8EE6B869B9}" type="slidenum"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2846520" y="523800"/>
            <a:ext cx="3333600" cy="25005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189080" y="3190680"/>
            <a:ext cx="664992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97D7-2FF9-4FEE-B612-55AFAEDF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693F-9579-4860-A383-7DEA50E4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0BD0-3FEF-49FF-9C42-06309EC5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A934-396F-48AD-B8C4-7AEF83AC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0CA2-1588-4EA0-AFD3-948241DC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55E7-DB8C-45CB-8ED1-F29ED22F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6DF5-9537-41FB-BE1E-E5B61B0E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3506-5FF3-4D39-A665-83A83F75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0585-6419-476B-9D4F-F9FD05A7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7BC8-6256-41C4-AB58-23817A71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8C08-524B-44C5-8C54-ED640BB1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62A2-2DFB-4B59-B88D-FFAAB48A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AA9F-10BB-49B3-B7E6-B8864F0884D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56"/>
          <p:cNvGrpSpPr/>
          <p:nvPr/>
        </p:nvGrpSpPr>
        <p:grpSpPr>
          <a:xfrm>
            <a:off x="-5040" y="0"/>
            <a:ext cx="9149040" cy="6858000"/>
            <a:chOff x="-5040" y="0"/>
            <a:chExt cx="9149040" cy="6858000"/>
          </a:xfrm>
        </p:grpSpPr>
        <p:pic>
          <p:nvPicPr>
            <p:cNvPr id="42" name="Picture 3" descr=""/>
            <p:cNvPicPr/>
            <p:nvPr/>
          </p:nvPicPr>
          <p:blipFill>
            <a:blip r:embed="rId2">
              <a:lum bright="70000" contrast="-70000"/>
            </a:blip>
            <a:srcRect l="0" t="10583" r="0" b="10730"/>
            <a:stretch/>
          </p:blipFill>
          <p:spPr>
            <a:xfrm>
              <a:off x="428760" y="0"/>
              <a:ext cx="8715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Freeform 9"/>
            <p:cNvSpPr/>
            <p:nvPr/>
          </p:nvSpPr>
          <p:spPr>
            <a:xfrm>
              <a:off x="0" y="0"/>
              <a:ext cx="749160" cy="685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Freeform 10"/>
            <p:cNvSpPr/>
            <p:nvPr/>
          </p:nvSpPr>
          <p:spPr>
            <a:xfrm>
              <a:off x="0" y="0"/>
              <a:ext cx="749160" cy="6858000"/>
            </a:xfrm>
            <a:prstGeom prst="pie">
              <a:avLst/>
            </a:prstGeom>
            <a:solidFill>
              <a:srgbClr val="6b4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1"/>
            <p:cNvGrpSpPr/>
            <p:nvPr/>
          </p:nvGrpSpPr>
          <p:grpSpPr>
            <a:xfrm>
              <a:off x="-5040" y="6840"/>
              <a:ext cx="454680" cy="6813720"/>
              <a:chOff x="-5040" y="6840"/>
              <a:chExt cx="454680" cy="6813720"/>
            </a:xfrm>
          </p:grpSpPr>
          <p:grpSp>
            <p:nvGrpSpPr>
              <p:cNvPr id="46" name="Group 12"/>
              <p:cNvGrpSpPr/>
              <p:nvPr/>
            </p:nvGrpSpPr>
            <p:grpSpPr>
              <a:xfrm>
                <a:off x="-5040" y="6840"/>
                <a:ext cx="454680" cy="3398760"/>
                <a:chOff x="-5040" y="6840"/>
                <a:chExt cx="454680" cy="3398760"/>
              </a:xfrm>
            </p:grpSpPr>
            <p:grpSp>
              <p:nvGrpSpPr>
                <p:cNvPr id="47" name="Group 13"/>
                <p:cNvGrpSpPr/>
                <p:nvPr/>
              </p:nvGrpSpPr>
              <p:grpSpPr>
                <a:xfrm>
                  <a:off x="-2520" y="1978920"/>
                  <a:ext cx="448560" cy="440280"/>
                  <a:chOff x="-2520" y="1978920"/>
                  <a:chExt cx="448560" cy="440280"/>
                </a:xfrm>
              </p:grpSpPr>
              <p:grpSp>
                <p:nvGrpSpPr>
                  <p:cNvPr id="48" name="Group 14"/>
                  <p:cNvGrpSpPr/>
                  <p:nvPr/>
                </p:nvGrpSpPr>
                <p:grpSpPr>
                  <a:xfrm>
                    <a:off x="237240" y="2108160"/>
                    <a:ext cx="208800" cy="207360"/>
                    <a:chOff x="237240" y="2108160"/>
                    <a:chExt cx="208800" cy="207360"/>
                  </a:xfrm>
                </p:grpSpPr>
                <p:sp>
                  <p:nvSpPr>
                    <p:cNvPr id="49" name="Rectangle 15"/>
                    <p:cNvSpPr/>
                    <p:nvPr/>
                  </p:nvSpPr>
                  <p:spPr>
                    <a:xfrm rot="19039200">
                      <a:off x="224640" y="216216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" name="Rectangle 16"/>
                    <p:cNvSpPr/>
                    <p:nvPr/>
                  </p:nvSpPr>
                  <p:spPr>
                    <a:xfrm rot="19039200">
                      <a:off x="255960" y="219744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" name="Rectangle 17"/>
                    <p:cNvSpPr/>
                    <p:nvPr/>
                  </p:nvSpPr>
                  <p:spPr>
                    <a:xfrm rot="19039200">
                      <a:off x="286560" y="223056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" name="Group 18"/>
                  <p:cNvGrpSpPr/>
                  <p:nvPr/>
                </p:nvGrpSpPr>
                <p:grpSpPr>
                  <a:xfrm>
                    <a:off x="-2520" y="2084040"/>
                    <a:ext cx="209160" cy="207360"/>
                    <a:chOff x="-2520" y="2084040"/>
                    <a:chExt cx="209160" cy="207360"/>
                  </a:xfrm>
                </p:grpSpPr>
                <p:sp>
                  <p:nvSpPr>
                    <p:cNvPr id="53" name="Rectangle 19"/>
                    <p:cNvSpPr/>
                    <p:nvPr/>
                  </p:nvSpPr>
                  <p:spPr>
                    <a:xfrm rot="19039200">
                      <a:off x="-15120" y="213804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" name="Rectangle 20"/>
                    <p:cNvSpPr/>
                    <p:nvPr/>
                  </p:nvSpPr>
                  <p:spPr>
                    <a:xfrm rot="19039200">
                      <a:off x="15840" y="217260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" name="Rectangle 21"/>
                    <p:cNvSpPr/>
                    <p:nvPr/>
                  </p:nvSpPr>
                  <p:spPr>
                    <a:xfrm rot="19039200">
                      <a:off x="46800" y="220680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6" name="Group 22"/>
                  <p:cNvGrpSpPr/>
                  <p:nvPr/>
                </p:nvGrpSpPr>
                <p:grpSpPr>
                  <a:xfrm>
                    <a:off x="131040" y="1978920"/>
                    <a:ext cx="207720" cy="205920"/>
                    <a:chOff x="131040" y="1978920"/>
                    <a:chExt cx="207720" cy="205920"/>
                  </a:xfrm>
                </p:grpSpPr>
                <p:sp>
                  <p:nvSpPr>
                    <p:cNvPr id="57" name="Rectangle 23"/>
                    <p:cNvSpPr/>
                    <p:nvPr/>
                  </p:nvSpPr>
                  <p:spPr>
                    <a:xfrm rot="13639200">
                      <a:off x="115560" y="2098080"/>
                      <a:ext cx="16596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" name="Rectangle 24"/>
                    <p:cNvSpPr/>
                    <p:nvPr/>
                  </p:nvSpPr>
                  <p:spPr>
                    <a:xfrm rot="13639200">
                      <a:off x="152280" y="2067480"/>
                      <a:ext cx="16596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" name="Rectangle 25"/>
                    <p:cNvSpPr/>
                    <p:nvPr/>
                  </p:nvSpPr>
                  <p:spPr>
                    <a:xfrm rot="13639200">
                      <a:off x="186840" y="2035440"/>
                      <a:ext cx="16776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" name="Group 26"/>
                  <p:cNvGrpSpPr/>
                  <p:nvPr/>
                </p:nvGrpSpPr>
                <p:grpSpPr>
                  <a:xfrm>
                    <a:off x="107640" y="2213640"/>
                    <a:ext cx="207720" cy="205560"/>
                    <a:chOff x="107640" y="2213640"/>
                    <a:chExt cx="207720" cy="205560"/>
                  </a:xfrm>
                </p:grpSpPr>
                <p:sp>
                  <p:nvSpPr>
                    <p:cNvPr id="61" name="Rectangle 27"/>
                    <p:cNvSpPr/>
                    <p:nvPr/>
                  </p:nvSpPr>
                  <p:spPr>
                    <a:xfrm rot="13639200">
                      <a:off x="91800" y="2332440"/>
                      <a:ext cx="16632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" name="Rectangle 28"/>
                    <p:cNvSpPr/>
                    <p:nvPr/>
                  </p:nvSpPr>
                  <p:spPr>
                    <a:xfrm rot="13639200">
                      <a:off x="128880" y="2301840"/>
                      <a:ext cx="16632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Rectangle 29"/>
                    <p:cNvSpPr/>
                    <p:nvPr/>
                  </p:nvSpPr>
                  <p:spPr>
                    <a:xfrm rot="13639200">
                      <a:off x="163080" y="2270160"/>
                      <a:ext cx="16812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4" name="Group 30"/>
                <p:cNvGrpSpPr/>
                <p:nvPr/>
              </p:nvGrpSpPr>
              <p:grpSpPr>
                <a:xfrm>
                  <a:off x="720" y="1483200"/>
                  <a:ext cx="448920" cy="436320"/>
                  <a:chOff x="720" y="1483200"/>
                  <a:chExt cx="448920" cy="436320"/>
                </a:xfrm>
              </p:grpSpPr>
              <p:grpSp>
                <p:nvGrpSpPr>
                  <p:cNvPr id="65" name="Group 31"/>
                  <p:cNvGrpSpPr/>
                  <p:nvPr/>
                </p:nvGrpSpPr>
                <p:grpSpPr>
                  <a:xfrm>
                    <a:off x="240480" y="1609560"/>
                    <a:ext cx="209160" cy="207000"/>
                    <a:chOff x="240480" y="1609560"/>
                    <a:chExt cx="209160" cy="207000"/>
                  </a:xfrm>
                </p:grpSpPr>
                <p:sp>
                  <p:nvSpPr>
                    <p:cNvPr id="66" name="Rectangle 32"/>
                    <p:cNvSpPr/>
                    <p:nvPr/>
                  </p:nvSpPr>
                  <p:spPr>
                    <a:xfrm rot="19039200">
                      <a:off x="227520" y="1663920"/>
                      <a:ext cx="17280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Rectangle 33"/>
                    <p:cNvSpPr/>
                    <p:nvPr/>
                  </p:nvSpPr>
                  <p:spPr>
                    <a:xfrm rot="19039200">
                      <a:off x="259200" y="1698840"/>
                      <a:ext cx="17280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Rectangle 34"/>
                    <p:cNvSpPr/>
                    <p:nvPr/>
                  </p:nvSpPr>
                  <p:spPr>
                    <a:xfrm rot="19039200">
                      <a:off x="289440" y="1731960"/>
                      <a:ext cx="17280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" name="Group 35"/>
                  <p:cNvGrpSpPr/>
                  <p:nvPr/>
                </p:nvGrpSpPr>
                <p:grpSpPr>
                  <a:xfrm>
                    <a:off x="720" y="1585800"/>
                    <a:ext cx="210600" cy="208800"/>
                    <a:chOff x="720" y="1585800"/>
                    <a:chExt cx="210600" cy="208800"/>
                  </a:xfrm>
                </p:grpSpPr>
                <p:sp>
                  <p:nvSpPr>
                    <p:cNvPr id="70" name="Rectangle 36"/>
                    <p:cNvSpPr/>
                    <p:nvPr/>
                  </p:nvSpPr>
                  <p:spPr>
                    <a:xfrm rot="19039200">
                      <a:off x="-11880" y="1640160"/>
                      <a:ext cx="17280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" name="Rectangle 37"/>
                    <p:cNvSpPr/>
                    <p:nvPr/>
                  </p:nvSpPr>
                  <p:spPr>
                    <a:xfrm rot="19039200">
                      <a:off x="19440" y="1674360"/>
                      <a:ext cx="172800" cy="316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" name="Rectangle 38"/>
                    <p:cNvSpPr/>
                    <p:nvPr/>
                  </p:nvSpPr>
                  <p:spPr>
                    <a:xfrm rot="19039200">
                      <a:off x="51120" y="1710000"/>
                      <a:ext cx="17280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" name="Group 39"/>
                  <p:cNvGrpSpPr/>
                  <p:nvPr/>
                </p:nvGrpSpPr>
                <p:grpSpPr>
                  <a:xfrm>
                    <a:off x="134640" y="1483200"/>
                    <a:ext cx="207360" cy="205200"/>
                    <a:chOff x="134640" y="1483200"/>
                    <a:chExt cx="207360" cy="205200"/>
                  </a:xfrm>
                </p:grpSpPr>
                <p:sp>
                  <p:nvSpPr>
                    <p:cNvPr id="74" name="Rectangle 40"/>
                    <p:cNvSpPr/>
                    <p:nvPr/>
                  </p:nvSpPr>
                  <p:spPr>
                    <a:xfrm rot="13639200">
                      <a:off x="119160" y="1601640"/>
                      <a:ext cx="16560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" name="Rectangle 41"/>
                    <p:cNvSpPr/>
                    <p:nvPr/>
                  </p:nvSpPr>
                  <p:spPr>
                    <a:xfrm rot="13639200">
                      <a:off x="156600" y="1571040"/>
                      <a:ext cx="16524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" name="Rectangle 42"/>
                    <p:cNvSpPr/>
                    <p:nvPr/>
                  </p:nvSpPr>
                  <p:spPr>
                    <a:xfrm rot="13639200">
                      <a:off x="190440" y="1539720"/>
                      <a:ext cx="16704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7" name="Group 43"/>
                  <p:cNvGrpSpPr/>
                  <p:nvPr/>
                </p:nvGrpSpPr>
                <p:grpSpPr>
                  <a:xfrm>
                    <a:off x="108720" y="1713960"/>
                    <a:ext cx="207720" cy="205560"/>
                    <a:chOff x="108720" y="1713960"/>
                    <a:chExt cx="207720" cy="205560"/>
                  </a:xfrm>
                </p:grpSpPr>
                <p:sp>
                  <p:nvSpPr>
                    <p:cNvPr id="78" name="Rectangle 44"/>
                    <p:cNvSpPr/>
                    <p:nvPr/>
                  </p:nvSpPr>
                  <p:spPr>
                    <a:xfrm rot="13639200">
                      <a:off x="93240" y="1832760"/>
                      <a:ext cx="16560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" name="Rectangle 45"/>
                    <p:cNvSpPr/>
                    <p:nvPr/>
                  </p:nvSpPr>
                  <p:spPr>
                    <a:xfrm rot="13639200">
                      <a:off x="130320" y="1802160"/>
                      <a:ext cx="16560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" name="Rectangle 46"/>
                    <p:cNvSpPr/>
                    <p:nvPr/>
                  </p:nvSpPr>
                  <p:spPr>
                    <a:xfrm rot="13639200">
                      <a:off x="164880" y="1770480"/>
                      <a:ext cx="16704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1" name="Group 47"/>
                <p:cNvGrpSpPr/>
                <p:nvPr/>
              </p:nvGrpSpPr>
              <p:grpSpPr>
                <a:xfrm>
                  <a:off x="-2520" y="994680"/>
                  <a:ext cx="447840" cy="436320"/>
                  <a:chOff x="-2520" y="994680"/>
                  <a:chExt cx="447840" cy="436320"/>
                </a:xfrm>
              </p:grpSpPr>
              <p:grpSp>
                <p:nvGrpSpPr>
                  <p:cNvPr id="82" name="Group 48"/>
                  <p:cNvGrpSpPr/>
                  <p:nvPr/>
                </p:nvGrpSpPr>
                <p:grpSpPr>
                  <a:xfrm>
                    <a:off x="236520" y="1122840"/>
                    <a:ext cx="208800" cy="206640"/>
                    <a:chOff x="236520" y="1122840"/>
                    <a:chExt cx="208800" cy="206640"/>
                  </a:xfrm>
                </p:grpSpPr>
                <p:sp>
                  <p:nvSpPr>
                    <p:cNvPr id="83" name="Rectangle 49"/>
                    <p:cNvSpPr/>
                    <p:nvPr/>
                  </p:nvSpPr>
                  <p:spPr>
                    <a:xfrm rot="19039200">
                      <a:off x="223920" y="1176840"/>
                      <a:ext cx="17208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Rectangle 50"/>
                    <p:cNvSpPr/>
                    <p:nvPr/>
                  </p:nvSpPr>
                  <p:spPr>
                    <a:xfrm rot="19039200">
                      <a:off x="254160" y="1210680"/>
                      <a:ext cx="17208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Rectangle 51"/>
                    <p:cNvSpPr/>
                    <p:nvPr/>
                  </p:nvSpPr>
                  <p:spPr>
                    <a:xfrm rot="19039200">
                      <a:off x="285480" y="1244520"/>
                      <a:ext cx="17208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" name="Group 52"/>
                  <p:cNvGrpSpPr/>
                  <p:nvPr/>
                </p:nvGrpSpPr>
                <p:grpSpPr>
                  <a:xfrm>
                    <a:off x="-2520" y="1099440"/>
                    <a:ext cx="208800" cy="206640"/>
                    <a:chOff x="-2520" y="1099440"/>
                    <a:chExt cx="208800" cy="206640"/>
                  </a:xfrm>
                </p:grpSpPr>
                <p:sp>
                  <p:nvSpPr>
                    <p:cNvPr id="87" name="Rectangle 53"/>
                    <p:cNvSpPr/>
                    <p:nvPr/>
                  </p:nvSpPr>
                  <p:spPr>
                    <a:xfrm rot="19039200">
                      <a:off x="-15120" y="115344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Rectangle 54"/>
                    <p:cNvSpPr/>
                    <p:nvPr/>
                  </p:nvSpPr>
                  <p:spPr>
                    <a:xfrm rot="19039200">
                      <a:off x="16200" y="118800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Rectangle 55"/>
                    <p:cNvSpPr/>
                    <p:nvPr/>
                  </p:nvSpPr>
                  <p:spPr>
                    <a:xfrm rot="19039200">
                      <a:off x="46440" y="122148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" name="Group 56"/>
                  <p:cNvGrpSpPr/>
                  <p:nvPr/>
                </p:nvGrpSpPr>
                <p:grpSpPr>
                  <a:xfrm>
                    <a:off x="131400" y="994680"/>
                    <a:ext cx="207000" cy="205200"/>
                    <a:chOff x="131400" y="994680"/>
                    <a:chExt cx="207000" cy="205200"/>
                  </a:xfrm>
                </p:grpSpPr>
                <p:sp>
                  <p:nvSpPr>
                    <p:cNvPr id="91" name="Rectangle 57"/>
                    <p:cNvSpPr/>
                    <p:nvPr/>
                  </p:nvSpPr>
                  <p:spPr>
                    <a:xfrm rot="13639200">
                      <a:off x="115920" y="1113120"/>
                      <a:ext cx="16560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Rectangle 58"/>
                    <p:cNvSpPr/>
                    <p:nvPr/>
                  </p:nvSpPr>
                  <p:spPr>
                    <a:xfrm rot="13639200">
                      <a:off x="152640" y="1082520"/>
                      <a:ext cx="16560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Rectangle 59"/>
                    <p:cNvSpPr/>
                    <p:nvPr/>
                  </p:nvSpPr>
                  <p:spPr>
                    <a:xfrm rot="13639200">
                      <a:off x="186840" y="1051200"/>
                      <a:ext cx="16704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" name="Group 60"/>
                  <p:cNvGrpSpPr/>
                  <p:nvPr/>
                </p:nvGrpSpPr>
                <p:grpSpPr>
                  <a:xfrm>
                    <a:off x="105840" y="1225800"/>
                    <a:ext cx="207360" cy="205200"/>
                    <a:chOff x="105840" y="1225800"/>
                    <a:chExt cx="207360" cy="205200"/>
                  </a:xfrm>
                </p:grpSpPr>
                <p:sp>
                  <p:nvSpPr>
                    <p:cNvPr id="95" name="Rectangle 61"/>
                    <p:cNvSpPr/>
                    <p:nvPr/>
                  </p:nvSpPr>
                  <p:spPr>
                    <a:xfrm rot="13639200">
                      <a:off x="90000" y="1344960"/>
                      <a:ext cx="16524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Rectangle 62"/>
                    <p:cNvSpPr/>
                    <p:nvPr/>
                  </p:nvSpPr>
                  <p:spPr>
                    <a:xfrm rot="13639200">
                      <a:off x="127080" y="1314720"/>
                      <a:ext cx="165240" cy="3132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Rectangle 63"/>
                    <p:cNvSpPr/>
                    <p:nvPr/>
                  </p:nvSpPr>
                  <p:spPr>
                    <a:xfrm rot="13639200">
                      <a:off x="162360" y="1282320"/>
                      <a:ext cx="1666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8" name="Group 64"/>
                <p:cNvGrpSpPr/>
                <p:nvPr/>
              </p:nvGrpSpPr>
              <p:grpSpPr>
                <a:xfrm>
                  <a:off x="-3240" y="500760"/>
                  <a:ext cx="448200" cy="437040"/>
                  <a:chOff x="-3240" y="500760"/>
                  <a:chExt cx="448200" cy="437040"/>
                </a:xfrm>
              </p:grpSpPr>
              <p:grpSp>
                <p:nvGrpSpPr>
                  <p:cNvPr id="99" name="Group 65"/>
                  <p:cNvGrpSpPr/>
                  <p:nvPr/>
                </p:nvGrpSpPr>
                <p:grpSpPr>
                  <a:xfrm>
                    <a:off x="235800" y="627840"/>
                    <a:ext cx="209160" cy="207000"/>
                    <a:chOff x="235800" y="627840"/>
                    <a:chExt cx="209160" cy="207000"/>
                  </a:xfrm>
                </p:grpSpPr>
                <p:sp>
                  <p:nvSpPr>
                    <p:cNvPr id="100" name="Rectangle 66"/>
                    <p:cNvSpPr/>
                    <p:nvPr/>
                  </p:nvSpPr>
                  <p:spPr>
                    <a:xfrm rot="19039200">
                      <a:off x="222840" y="68184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Rectangle 67"/>
                    <p:cNvSpPr/>
                    <p:nvPr/>
                  </p:nvSpPr>
                  <p:spPr>
                    <a:xfrm rot="19039200">
                      <a:off x="254520" y="71712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Rectangle 68"/>
                    <p:cNvSpPr/>
                    <p:nvPr/>
                  </p:nvSpPr>
                  <p:spPr>
                    <a:xfrm rot="19039200">
                      <a:off x="285120" y="75024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3" name="Group 69"/>
                  <p:cNvGrpSpPr/>
                  <p:nvPr/>
                </p:nvGrpSpPr>
                <p:grpSpPr>
                  <a:xfrm>
                    <a:off x="-3240" y="604080"/>
                    <a:ext cx="210240" cy="208080"/>
                    <a:chOff x="-3240" y="604080"/>
                    <a:chExt cx="210240" cy="208080"/>
                  </a:xfrm>
                </p:grpSpPr>
                <p:sp>
                  <p:nvSpPr>
                    <p:cNvPr id="104" name="Rectangle 70"/>
                    <p:cNvSpPr/>
                    <p:nvPr/>
                  </p:nvSpPr>
                  <p:spPr>
                    <a:xfrm rot="19039200">
                      <a:off x="-15840" y="658080"/>
                      <a:ext cx="17172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Rectangle 71"/>
                    <p:cNvSpPr/>
                    <p:nvPr/>
                  </p:nvSpPr>
                  <p:spPr>
                    <a:xfrm rot="19039200">
                      <a:off x="15840" y="692640"/>
                      <a:ext cx="172080" cy="316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Rectangle 72"/>
                    <p:cNvSpPr/>
                    <p:nvPr/>
                  </p:nvSpPr>
                  <p:spPr>
                    <a:xfrm rot="19039200">
                      <a:off x="47520" y="727920"/>
                      <a:ext cx="17172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7" name="Group 73"/>
                  <p:cNvGrpSpPr/>
                  <p:nvPr/>
                </p:nvGrpSpPr>
                <p:grpSpPr>
                  <a:xfrm>
                    <a:off x="130320" y="500760"/>
                    <a:ext cx="207000" cy="204840"/>
                    <a:chOff x="130320" y="500760"/>
                    <a:chExt cx="207000" cy="204840"/>
                  </a:xfrm>
                </p:grpSpPr>
                <p:sp>
                  <p:nvSpPr>
                    <p:cNvPr id="108" name="Rectangle 74"/>
                    <p:cNvSpPr/>
                    <p:nvPr/>
                  </p:nvSpPr>
                  <p:spPr>
                    <a:xfrm rot="13639200">
                      <a:off x="114480" y="619200"/>
                      <a:ext cx="16560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Rectangle 75"/>
                    <p:cNvSpPr/>
                    <p:nvPr/>
                  </p:nvSpPr>
                  <p:spPr>
                    <a:xfrm rot="13639200">
                      <a:off x="151200" y="588600"/>
                      <a:ext cx="16560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Rectangle 76"/>
                    <p:cNvSpPr/>
                    <p:nvPr/>
                  </p:nvSpPr>
                  <p:spPr>
                    <a:xfrm rot="13639200">
                      <a:off x="185760" y="556920"/>
                      <a:ext cx="16704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1" name="Group 77"/>
                  <p:cNvGrpSpPr/>
                  <p:nvPr/>
                </p:nvGrpSpPr>
                <p:grpSpPr>
                  <a:xfrm>
                    <a:off x="105120" y="732600"/>
                    <a:ext cx="207360" cy="205200"/>
                    <a:chOff x="105120" y="732600"/>
                    <a:chExt cx="207360" cy="205200"/>
                  </a:xfrm>
                </p:grpSpPr>
                <p:sp>
                  <p:nvSpPr>
                    <p:cNvPr id="112" name="Rectangle 78"/>
                    <p:cNvSpPr/>
                    <p:nvPr/>
                  </p:nvSpPr>
                  <p:spPr>
                    <a:xfrm rot="13639200">
                      <a:off x="89280" y="851400"/>
                      <a:ext cx="16560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Rectangle 79"/>
                    <p:cNvSpPr/>
                    <p:nvPr/>
                  </p:nvSpPr>
                  <p:spPr>
                    <a:xfrm rot="13639200">
                      <a:off x="126000" y="820800"/>
                      <a:ext cx="16560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Rectangle 80"/>
                    <p:cNvSpPr/>
                    <p:nvPr/>
                  </p:nvSpPr>
                  <p:spPr>
                    <a:xfrm rot="13639200">
                      <a:off x="160920" y="788760"/>
                      <a:ext cx="16704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15" name="Group 81"/>
                <p:cNvGrpSpPr/>
                <p:nvPr/>
              </p:nvGrpSpPr>
              <p:grpSpPr>
                <a:xfrm>
                  <a:off x="-1800" y="6840"/>
                  <a:ext cx="448200" cy="438120"/>
                  <a:chOff x="-1800" y="6840"/>
                  <a:chExt cx="448200" cy="438120"/>
                </a:xfrm>
              </p:grpSpPr>
              <p:grpSp>
                <p:nvGrpSpPr>
                  <p:cNvPr id="116" name="Group 82"/>
                  <p:cNvGrpSpPr/>
                  <p:nvPr/>
                </p:nvGrpSpPr>
                <p:grpSpPr>
                  <a:xfrm>
                    <a:off x="237600" y="136800"/>
                    <a:ext cx="208800" cy="206640"/>
                    <a:chOff x="237600" y="136800"/>
                    <a:chExt cx="208800" cy="206640"/>
                  </a:xfrm>
                </p:grpSpPr>
                <p:sp>
                  <p:nvSpPr>
                    <p:cNvPr id="117" name="Rectangle 83"/>
                    <p:cNvSpPr/>
                    <p:nvPr/>
                  </p:nvSpPr>
                  <p:spPr>
                    <a:xfrm rot="19039200">
                      <a:off x="224640" y="19080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Rectangle 84"/>
                    <p:cNvSpPr/>
                    <p:nvPr/>
                  </p:nvSpPr>
                  <p:spPr>
                    <a:xfrm rot="19039200">
                      <a:off x="256680" y="22572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Rectangle 85"/>
                    <p:cNvSpPr/>
                    <p:nvPr/>
                  </p:nvSpPr>
                  <p:spPr>
                    <a:xfrm rot="19039200">
                      <a:off x="286560" y="25884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" name="Group 86"/>
                  <p:cNvGrpSpPr/>
                  <p:nvPr/>
                </p:nvGrpSpPr>
                <p:grpSpPr>
                  <a:xfrm>
                    <a:off x="-1800" y="111240"/>
                    <a:ext cx="208800" cy="207000"/>
                    <a:chOff x="-1800" y="111240"/>
                    <a:chExt cx="208800" cy="207000"/>
                  </a:xfrm>
                </p:grpSpPr>
                <p:sp>
                  <p:nvSpPr>
                    <p:cNvPr id="121" name="Rectangle 87"/>
                    <p:cNvSpPr/>
                    <p:nvPr/>
                  </p:nvSpPr>
                  <p:spPr>
                    <a:xfrm rot="19039200">
                      <a:off x="-14040" y="16524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Rectangle 88"/>
                    <p:cNvSpPr/>
                    <p:nvPr/>
                  </p:nvSpPr>
                  <p:spPr>
                    <a:xfrm rot="19039200">
                      <a:off x="16920" y="20052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Rectangle 89"/>
                    <p:cNvSpPr/>
                    <p:nvPr/>
                  </p:nvSpPr>
                  <p:spPr>
                    <a:xfrm rot="19039200">
                      <a:off x="47520" y="23328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4" name="Group 90"/>
                  <p:cNvGrpSpPr/>
                  <p:nvPr/>
                </p:nvGrpSpPr>
                <p:grpSpPr>
                  <a:xfrm>
                    <a:off x="132120" y="6840"/>
                    <a:ext cx="207360" cy="205200"/>
                    <a:chOff x="132120" y="6840"/>
                    <a:chExt cx="207360" cy="205200"/>
                  </a:xfrm>
                </p:grpSpPr>
                <p:sp>
                  <p:nvSpPr>
                    <p:cNvPr id="125" name="Rectangle 91"/>
                    <p:cNvSpPr/>
                    <p:nvPr/>
                  </p:nvSpPr>
                  <p:spPr>
                    <a:xfrm rot="13639200">
                      <a:off x="116640" y="125280"/>
                      <a:ext cx="16560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Rectangle 92"/>
                    <p:cNvSpPr/>
                    <p:nvPr/>
                  </p:nvSpPr>
                  <p:spPr>
                    <a:xfrm rot="13639200">
                      <a:off x="153720" y="94680"/>
                      <a:ext cx="16560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Rectangle 93"/>
                    <p:cNvSpPr/>
                    <p:nvPr/>
                  </p:nvSpPr>
                  <p:spPr>
                    <a:xfrm rot="13639200">
                      <a:off x="187920" y="63360"/>
                      <a:ext cx="16704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Group 94"/>
                  <p:cNvGrpSpPr/>
                  <p:nvPr/>
                </p:nvGrpSpPr>
                <p:grpSpPr>
                  <a:xfrm>
                    <a:off x="106920" y="239760"/>
                    <a:ext cx="207000" cy="205200"/>
                    <a:chOff x="106920" y="239760"/>
                    <a:chExt cx="207000" cy="205200"/>
                  </a:xfrm>
                </p:grpSpPr>
                <p:sp>
                  <p:nvSpPr>
                    <p:cNvPr id="129" name="Rectangle 95"/>
                    <p:cNvSpPr/>
                    <p:nvPr/>
                  </p:nvSpPr>
                  <p:spPr>
                    <a:xfrm rot="13639200">
                      <a:off x="91440" y="358200"/>
                      <a:ext cx="16560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Rectangle 96"/>
                    <p:cNvSpPr/>
                    <p:nvPr/>
                  </p:nvSpPr>
                  <p:spPr>
                    <a:xfrm rot="13639200">
                      <a:off x="128160" y="327600"/>
                      <a:ext cx="16560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Rectangle 97"/>
                    <p:cNvSpPr/>
                    <p:nvPr/>
                  </p:nvSpPr>
                  <p:spPr>
                    <a:xfrm rot="13639200">
                      <a:off x="162360" y="296280"/>
                      <a:ext cx="16704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2" name="Group 98"/>
                <p:cNvGrpSpPr/>
                <p:nvPr/>
              </p:nvGrpSpPr>
              <p:grpSpPr>
                <a:xfrm>
                  <a:off x="-5040" y="2474280"/>
                  <a:ext cx="449280" cy="434160"/>
                  <a:chOff x="-5040" y="2474280"/>
                  <a:chExt cx="449280" cy="434160"/>
                </a:xfrm>
              </p:grpSpPr>
              <p:grpSp>
                <p:nvGrpSpPr>
                  <p:cNvPr id="133" name="Group 99"/>
                  <p:cNvGrpSpPr/>
                  <p:nvPr/>
                </p:nvGrpSpPr>
                <p:grpSpPr>
                  <a:xfrm>
                    <a:off x="235440" y="2600280"/>
                    <a:ext cx="208800" cy="206640"/>
                    <a:chOff x="235440" y="2600280"/>
                    <a:chExt cx="208800" cy="206640"/>
                  </a:xfrm>
                </p:grpSpPr>
                <p:sp>
                  <p:nvSpPr>
                    <p:cNvPr id="134" name="Rectangle 100"/>
                    <p:cNvSpPr/>
                    <p:nvPr/>
                  </p:nvSpPr>
                  <p:spPr>
                    <a:xfrm rot="19039200">
                      <a:off x="222480" y="265428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Rectangle 101"/>
                    <p:cNvSpPr/>
                    <p:nvPr/>
                  </p:nvSpPr>
                  <p:spPr>
                    <a:xfrm rot="19039200">
                      <a:off x="254160" y="268956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Rectangle 102"/>
                    <p:cNvSpPr/>
                    <p:nvPr/>
                  </p:nvSpPr>
                  <p:spPr>
                    <a:xfrm rot="19039200">
                      <a:off x="284400" y="272232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Group 103"/>
                  <p:cNvGrpSpPr/>
                  <p:nvPr/>
                </p:nvGrpSpPr>
                <p:grpSpPr>
                  <a:xfrm>
                    <a:off x="-5040" y="2575080"/>
                    <a:ext cx="212040" cy="208440"/>
                    <a:chOff x="-5040" y="2575080"/>
                    <a:chExt cx="212040" cy="208440"/>
                  </a:xfrm>
                </p:grpSpPr>
                <p:sp>
                  <p:nvSpPr>
                    <p:cNvPr id="138" name="Rectangle 104"/>
                    <p:cNvSpPr/>
                    <p:nvPr/>
                  </p:nvSpPr>
                  <p:spPr>
                    <a:xfrm rot="19039200">
                      <a:off x="-17640" y="2629080"/>
                      <a:ext cx="171720" cy="2952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Rectangle 105"/>
                    <p:cNvSpPr/>
                    <p:nvPr/>
                  </p:nvSpPr>
                  <p:spPr>
                    <a:xfrm rot="19039200">
                      <a:off x="15120" y="2664720"/>
                      <a:ext cx="171720" cy="3132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Rectangle 106"/>
                    <p:cNvSpPr/>
                    <p:nvPr/>
                  </p:nvSpPr>
                  <p:spPr>
                    <a:xfrm rot="19039200">
                      <a:off x="47880" y="2699640"/>
                      <a:ext cx="171720" cy="2952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1" name="Group 107"/>
                  <p:cNvGrpSpPr/>
                  <p:nvPr/>
                </p:nvGrpSpPr>
                <p:grpSpPr>
                  <a:xfrm>
                    <a:off x="130680" y="2474280"/>
                    <a:ext cx="206640" cy="204480"/>
                    <a:chOff x="130680" y="2474280"/>
                    <a:chExt cx="206640" cy="204480"/>
                  </a:xfrm>
                </p:grpSpPr>
                <p:sp>
                  <p:nvSpPr>
                    <p:cNvPr id="142" name="Rectangle 108"/>
                    <p:cNvSpPr/>
                    <p:nvPr/>
                  </p:nvSpPr>
                  <p:spPr>
                    <a:xfrm rot="13639200">
                      <a:off x="114840" y="2592360"/>
                      <a:ext cx="16524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Rectangle 109"/>
                    <p:cNvSpPr/>
                    <p:nvPr/>
                  </p:nvSpPr>
                  <p:spPr>
                    <a:xfrm rot="13639200">
                      <a:off x="151560" y="2561760"/>
                      <a:ext cx="16524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Rectangle 110"/>
                    <p:cNvSpPr/>
                    <p:nvPr/>
                  </p:nvSpPr>
                  <p:spPr>
                    <a:xfrm rot="13639200">
                      <a:off x="186120" y="2530440"/>
                      <a:ext cx="1666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5" name="Group 111"/>
                  <p:cNvGrpSpPr/>
                  <p:nvPr/>
                </p:nvGrpSpPr>
                <p:grpSpPr>
                  <a:xfrm>
                    <a:off x="104760" y="2703600"/>
                    <a:ext cx="207000" cy="204840"/>
                    <a:chOff x="104760" y="2703600"/>
                    <a:chExt cx="207000" cy="204840"/>
                  </a:xfrm>
                </p:grpSpPr>
                <p:sp>
                  <p:nvSpPr>
                    <p:cNvPr id="146" name="Rectangle 112"/>
                    <p:cNvSpPr/>
                    <p:nvPr/>
                  </p:nvSpPr>
                  <p:spPr>
                    <a:xfrm rot="13639200">
                      <a:off x="88920" y="2822040"/>
                      <a:ext cx="16560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Rectangle 113"/>
                    <p:cNvSpPr/>
                    <p:nvPr/>
                  </p:nvSpPr>
                  <p:spPr>
                    <a:xfrm rot="13639200">
                      <a:off x="125640" y="2791440"/>
                      <a:ext cx="16560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Rectangle 114"/>
                    <p:cNvSpPr/>
                    <p:nvPr/>
                  </p:nvSpPr>
                  <p:spPr>
                    <a:xfrm rot="13639200">
                      <a:off x="160200" y="2759760"/>
                      <a:ext cx="16704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9" name="Group 115"/>
                <p:cNvGrpSpPr/>
                <p:nvPr/>
              </p:nvGrpSpPr>
              <p:grpSpPr>
                <a:xfrm>
                  <a:off x="-2520" y="2962440"/>
                  <a:ext cx="448200" cy="443160"/>
                  <a:chOff x="-2520" y="2962440"/>
                  <a:chExt cx="448200" cy="443160"/>
                </a:xfrm>
              </p:grpSpPr>
              <p:grpSp>
                <p:nvGrpSpPr>
                  <p:cNvPr id="150" name="Group 116"/>
                  <p:cNvGrpSpPr/>
                  <p:nvPr/>
                </p:nvGrpSpPr>
                <p:grpSpPr>
                  <a:xfrm>
                    <a:off x="236520" y="3093120"/>
                    <a:ext cx="209160" cy="207360"/>
                    <a:chOff x="236520" y="3093120"/>
                    <a:chExt cx="209160" cy="207360"/>
                  </a:xfrm>
                </p:grpSpPr>
                <p:sp>
                  <p:nvSpPr>
                    <p:cNvPr id="151" name="Rectangle 117"/>
                    <p:cNvSpPr/>
                    <p:nvPr/>
                  </p:nvSpPr>
                  <p:spPr>
                    <a:xfrm rot="19039200">
                      <a:off x="223560" y="3147480"/>
                      <a:ext cx="172080" cy="2952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Rectangle 118"/>
                    <p:cNvSpPr/>
                    <p:nvPr/>
                  </p:nvSpPr>
                  <p:spPr>
                    <a:xfrm rot="19039200">
                      <a:off x="254520" y="3182400"/>
                      <a:ext cx="172080" cy="2952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Rectangle 119"/>
                    <p:cNvSpPr/>
                    <p:nvPr/>
                  </p:nvSpPr>
                  <p:spPr>
                    <a:xfrm rot="19039200">
                      <a:off x="286200" y="3216600"/>
                      <a:ext cx="172080" cy="2952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4" name="Group 120"/>
                  <p:cNvGrpSpPr/>
                  <p:nvPr/>
                </p:nvGrpSpPr>
                <p:grpSpPr>
                  <a:xfrm>
                    <a:off x="-2520" y="3069720"/>
                    <a:ext cx="208800" cy="207360"/>
                    <a:chOff x="-2520" y="3069720"/>
                    <a:chExt cx="208800" cy="207360"/>
                  </a:xfrm>
                </p:grpSpPr>
                <p:sp>
                  <p:nvSpPr>
                    <p:cNvPr id="155" name="Rectangle 121"/>
                    <p:cNvSpPr/>
                    <p:nvPr/>
                  </p:nvSpPr>
                  <p:spPr>
                    <a:xfrm rot="19039200">
                      <a:off x="-14760" y="312372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Rectangle 122"/>
                    <p:cNvSpPr/>
                    <p:nvPr/>
                  </p:nvSpPr>
                  <p:spPr>
                    <a:xfrm rot="19039200">
                      <a:off x="16200" y="315900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Rectangle 123"/>
                    <p:cNvSpPr/>
                    <p:nvPr/>
                  </p:nvSpPr>
                  <p:spPr>
                    <a:xfrm rot="19039200">
                      <a:off x="46800" y="319212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8" name="Group 124"/>
                  <p:cNvGrpSpPr/>
                  <p:nvPr/>
                </p:nvGrpSpPr>
                <p:grpSpPr>
                  <a:xfrm>
                    <a:off x="131040" y="2962440"/>
                    <a:ext cx="205920" cy="208440"/>
                    <a:chOff x="131040" y="2962440"/>
                    <a:chExt cx="205920" cy="208440"/>
                  </a:xfrm>
                </p:grpSpPr>
                <p:sp>
                  <p:nvSpPr>
                    <p:cNvPr id="159" name="Rectangle 125"/>
                    <p:cNvSpPr/>
                    <p:nvPr/>
                  </p:nvSpPr>
                  <p:spPr>
                    <a:xfrm rot="13639200">
                      <a:off x="114840" y="3084840"/>
                      <a:ext cx="166680" cy="2952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Rectangle 126"/>
                    <p:cNvSpPr/>
                    <p:nvPr/>
                  </p:nvSpPr>
                  <p:spPr>
                    <a:xfrm rot="13639200">
                      <a:off x="151920" y="3054240"/>
                      <a:ext cx="166680" cy="3096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840" bIns="-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Rectangle 127"/>
                    <p:cNvSpPr/>
                    <p:nvPr/>
                  </p:nvSpPr>
                  <p:spPr>
                    <a:xfrm rot="13639200">
                      <a:off x="184680" y="3019680"/>
                      <a:ext cx="168480" cy="2952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2" name="Group 128"/>
                  <p:cNvGrpSpPr/>
                  <p:nvPr/>
                </p:nvGrpSpPr>
                <p:grpSpPr>
                  <a:xfrm>
                    <a:off x="107280" y="3196800"/>
                    <a:ext cx="207720" cy="208800"/>
                    <a:chOff x="107280" y="3196800"/>
                    <a:chExt cx="207720" cy="208800"/>
                  </a:xfrm>
                </p:grpSpPr>
                <p:sp>
                  <p:nvSpPr>
                    <p:cNvPr id="163" name="Rectangle 129"/>
                    <p:cNvSpPr/>
                    <p:nvPr/>
                  </p:nvSpPr>
                  <p:spPr>
                    <a:xfrm rot="13639200">
                      <a:off x="91080" y="3318480"/>
                      <a:ext cx="16812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Rectangle 130"/>
                    <p:cNvSpPr/>
                    <p:nvPr/>
                  </p:nvSpPr>
                  <p:spPr>
                    <a:xfrm rot="13639200">
                      <a:off x="127080" y="3287880"/>
                      <a:ext cx="16812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Rectangle 131"/>
                    <p:cNvSpPr/>
                    <p:nvPr/>
                  </p:nvSpPr>
                  <p:spPr>
                    <a:xfrm rot="13639200">
                      <a:off x="161280" y="3254040"/>
                      <a:ext cx="16992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6" name="Group 132"/>
              <p:cNvGrpSpPr/>
              <p:nvPr/>
            </p:nvGrpSpPr>
            <p:grpSpPr>
              <a:xfrm>
                <a:off x="-2520" y="3426120"/>
                <a:ext cx="450360" cy="3394440"/>
                <a:chOff x="-2520" y="3426120"/>
                <a:chExt cx="450360" cy="3394440"/>
              </a:xfrm>
            </p:grpSpPr>
            <p:grpSp>
              <p:nvGrpSpPr>
                <p:cNvPr id="167" name="Group 133"/>
                <p:cNvGrpSpPr/>
                <p:nvPr/>
              </p:nvGrpSpPr>
              <p:grpSpPr>
                <a:xfrm>
                  <a:off x="-2520" y="5397480"/>
                  <a:ext cx="447840" cy="439920"/>
                  <a:chOff x="-2520" y="5397480"/>
                  <a:chExt cx="447840" cy="439920"/>
                </a:xfrm>
              </p:grpSpPr>
              <p:grpSp>
                <p:nvGrpSpPr>
                  <p:cNvPr id="168" name="Group 134"/>
                  <p:cNvGrpSpPr/>
                  <p:nvPr/>
                </p:nvGrpSpPr>
                <p:grpSpPr>
                  <a:xfrm>
                    <a:off x="236520" y="5526720"/>
                    <a:ext cx="208800" cy="207000"/>
                    <a:chOff x="236520" y="5526720"/>
                    <a:chExt cx="208800" cy="207000"/>
                  </a:xfrm>
                </p:grpSpPr>
                <p:sp>
                  <p:nvSpPr>
                    <p:cNvPr id="169" name="Rectangle 135"/>
                    <p:cNvSpPr/>
                    <p:nvPr/>
                  </p:nvSpPr>
                  <p:spPr>
                    <a:xfrm rot="19039200">
                      <a:off x="223560" y="5581080"/>
                      <a:ext cx="172080" cy="2952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Rectangle 136"/>
                    <p:cNvSpPr/>
                    <p:nvPr/>
                  </p:nvSpPr>
                  <p:spPr>
                    <a:xfrm rot="19039200">
                      <a:off x="254520" y="5616000"/>
                      <a:ext cx="172080" cy="2952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Rectangle 137"/>
                    <p:cNvSpPr/>
                    <p:nvPr/>
                  </p:nvSpPr>
                  <p:spPr>
                    <a:xfrm rot="19039200">
                      <a:off x="285840" y="5649840"/>
                      <a:ext cx="172080" cy="2952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2" name="Group 138"/>
                  <p:cNvGrpSpPr/>
                  <p:nvPr/>
                </p:nvGrpSpPr>
                <p:grpSpPr>
                  <a:xfrm>
                    <a:off x="-2520" y="5502960"/>
                    <a:ext cx="208800" cy="207000"/>
                    <a:chOff x="-2520" y="5502960"/>
                    <a:chExt cx="208800" cy="207000"/>
                  </a:xfrm>
                </p:grpSpPr>
                <p:sp>
                  <p:nvSpPr>
                    <p:cNvPr id="173" name="Rectangle 139"/>
                    <p:cNvSpPr/>
                    <p:nvPr/>
                  </p:nvSpPr>
                  <p:spPr>
                    <a:xfrm rot="19039200">
                      <a:off x="-15120" y="5557320"/>
                      <a:ext cx="172080" cy="2952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Rectangle 140"/>
                    <p:cNvSpPr/>
                    <p:nvPr/>
                  </p:nvSpPr>
                  <p:spPr>
                    <a:xfrm rot="19039200">
                      <a:off x="15840" y="5591880"/>
                      <a:ext cx="172080" cy="2952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Rectangle 141"/>
                    <p:cNvSpPr/>
                    <p:nvPr/>
                  </p:nvSpPr>
                  <p:spPr>
                    <a:xfrm rot="19039200">
                      <a:off x="46800" y="5626080"/>
                      <a:ext cx="172080" cy="2952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6" name="Group 142"/>
                  <p:cNvGrpSpPr/>
                  <p:nvPr/>
                </p:nvGrpSpPr>
                <p:grpSpPr>
                  <a:xfrm>
                    <a:off x="131400" y="5397480"/>
                    <a:ext cx="207360" cy="205560"/>
                    <a:chOff x="131400" y="5397480"/>
                    <a:chExt cx="207360" cy="205560"/>
                  </a:xfrm>
                </p:grpSpPr>
                <p:sp>
                  <p:nvSpPr>
                    <p:cNvPr id="177" name="Rectangle 143"/>
                    <p:cNvSpPr/>
                    <p:nvPr/>
                  </p:nvSpPr>
                  <p:spPr>
                    <a:xfrm rot="13639200">
                      <a:off x="115920" y="5516640"/>
                      <a:ext cx="16596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Rectangle 144"/>
                    <p:cNvSpPr/>
                    <p:nvPr/>
                  </p:nvSpPr>
                  <p:spPr>
                    <a:xfrm rot="13639200">
                      <a:off x="152640" y="5486040"/>
                      <a:ext cx="16596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Rectangle 145"/>
                    <p:cNvSpPr/>
                    <p:nvPr/>
                  </p:nvSpPr>
                  <p:spPr>
                    <a:xfrm rot="13639200">
                      <a:off x="186480" y="5454360"/>
                      <a:ext cx="16776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0" name="Group 146"/>
                  <p:cNvGrpSpPr/>
                  <p:nvPr/>
                </p:nvGrpSpPr>
                <p:grpSpPr>
                  <a:xfrm>
                    <a:off x="107640" y="5631840"/>
                    <a:ext cx="207360" cy="205560"/>
                    <a:chOff x="107640" y="5631840"/>
                    <a:chExt cx="207360" cy="205560"/>
                  </a:xfrm>
                </p:grpSpPr>
                <p:sp>
                  <p:nvSpPr>
                    <p:cNvPr id="181" name="Rectangle 147"/>
                    <p:cNvSpPr/>
                    <p:nvPr/>
                  </p:nvSpPr>
                  <p:spPr>
                    <a:xfrm rot="13639200">
                      <a:off x="92160" y="5751000"/>
                      <a:ext cx="16596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Rectangle 148"/>
                    <p:cNvSpPr/>
                    <p:nvPr/>
                  </p:nvSpPr>
                  <p:spPr>
                    <a:xfrm rot="13639200">
                      <a:off x="128880" y="5720400"/>
                      <a:ext cx="16596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Rectangle 149"/>
                    <p:cNvSpPr/>
                    <p:nvPr/>
                  </p:nvSpPr>
                  <p:spPr>
                    <a:xfrm rot="13639200">
                      <a:off x="162720" y="5688720"/>
                      <a:ext cx="16776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4" name="Group 150"/>
                <p:cNvGrpSpPr/>
                <p:nvPr/>
              </p:nvGrpSpPr>
              <p:grpSpPr>
                <a:xfrm>
                  <a:off x="-2160" y="4906800"/>
                  <a:ext cx="446760" cy="438480"/>
                  <a:chOff x="-2160" y="4906800"/>
                  <a:chExt cx="446760" cy="438480"/>
                </a:xfrm>
              </p:grpSpPr>
              <p:grpSp>
                <p:nvGrpSpPr>
                  <p:cNvPr id="185" name="Group 151"/>
                  <p:cNvGrpSpPr/>
                  <p:nvPr/>
                </p:nvGrpSpPr>
                <p:grpSpPr>
                  <a:xfrm>
                    <a:off x="235800" y="5033880"/>
                    <a:ext cx="208800" cy="207360"/>
                    <a:chOff x="235800" y="5033880"/>
                    <a:chExt cx="208800" cy="207360"/>
                  </a:xfrm>
                </p:grpSpPr>
                <p:sp>
                  <p:nvSpPr>
                    <p:cNvPr id="186" name="Rectangle 152"/>
                    <p:cNvSpPr/>
                    <p:nvPr/>
                  </p:nvSpPr>
                  <p:spPr>
                    <a:xfrm rot="19039200">
                      <a:off x="223200" y="508788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Rectangle 153"/>
                    <p:cNvSpPr/>
                    <p:nvPr/>
                  </p:nvSpPr>
                  <p:spPr>
                    <a:xfrm rot="19039200">
                      <a:off x="254880" y="512280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Rectangle 154"/>
                    <p:cNvSpPr/>
                    <p:nvPr/>
                  </p:nvSpPr>
                  <p:spPr>
                    <a:xfrm rot="19039200">
                      <a:off x="285120" y="515628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Group 155"/>
                  <p:cNvGrpSpPr/>
                  <p:nvPr/>
                </p:nvGrpSpPr>
                <p:grpSpPr>
                  <a:xfrm>
                    <a:off x="-2160" y="5010480"/>
                    <a:ext cx="210240" cy="209160"/>
                    <a:chOff x="-2160" y="5010480"/>
                    <a:chExt cx="210240" cy="209160"/>
                  </a:xfrm>
                </p:grpSpPr>
                <p:sp>
                  <p:nvSpPr>
                    <p:cNvPr id="190" name="Rectangle 156"/>
                    <p:cNvSpPr/>
                    <p:nvPr/>
                  </p:nvSpPr>
                  <p:spPr>
                    <a:xfrm rot="19039200">
                      <a:off x="-14400" y="506448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Rectangle 157"/>
                    <p:cNvSpPr/>
                    <p:nvPr/>
                  </p:nvSpPr>
                  <p:spPr>
                    <a:xfrm rot="19039200">
                      <a:off x="15120" y="5099040"/>
                      <a:ext cx="172080" cy="316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Rectangle 158"/>
                    <p:cNvSpPr/>
                    <p:nvPr/>
                  </p:nvSpPr>
                  <p:spPr>
                    <a:xfrm rot="19039200">
                      <a:off x="47160" y="5134320"/>
                      <a:ext cx="17352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Group 159"/>
                  <p:cNvGrpSpPr/>
                  <p:nvPr/>
                </p:nvGrpSpPr>
                <p:grpSpPr>
                  <a:xfrm>
                    <a:off x="130680" y="4906800"/>
                    <a:ext cx="207000" cy="205200"/>
                    <a:chOff x="130680" y="4906800"/>
                    <a:chExt cx="207000" cy="205200"/>
                  </a:xfrm>
                </p:grpSpPr>
                <p:sp>
                  <p:nvSpPr>
                    <p:cNvPr id="194" name="Rectangle 160"/>
                    <p:cNvSpPr/>
                    <p:nvPr/>
                  </p:nvSpPr>
                  <p:spPr>
                    <a:xfrm rot="13639200">
                      <a:off x="114840" y="5025600"/>
                      <a:ext cx="16560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Rectangle 161"/>
                    <p:cNvSpPr/>
                    <p:nvPr/>
                  </p:nvSpPr>
                  <p:spPr>
                    <a:xfrm rot="13639200">
                      <a:off x="151200" y="4995360"/>
                      <a:ext cx="16560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Rectangle 162"/>
                    <p:cNvSpPr/>
                    <p:nvPr/>
                  </p:nvSpPr>
                  <p:spPr>
                    <a:xfrm rot="13639200">
                      <a:off x="185760" y="4963320"/>
                      <a:ext cx="16740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7" name="Group 163"/>
                  <p:cNvGrpSpPr/>
                  <p:nvPr/>
                </p:nvGrpSpPr>
                <p:grpSpPr>
                  <a:xfrm>
                    <a:off x="105120" y="5139000"/>
                    <a:ext cx="208800" cy="206280"/>
                    <a:chOff x="105120" y="5139000"/>
                    <a:chExt cx="208800" cy="206280"/>
                  </a:xfrm>
                </p:grpSpPr>
                <p:sp>
                  <p:nvSpPr>
                    <p:cNvPr id="198" name="Rectangle 164"/>
                    <p:cNvSpPr/>
                    <p:nvPr/>
                  </p:nvSpPr>
                  <p:spPr>
                    <a:xfrm rot="13639200">
                      <a:off x="90000" y="5257080"/>
                      <a:ext cx="165960" cy="320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760" bIns="-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Rectangle 165"/>
                    <p:cNvSpPr/>
                    <p:nvPr/>
                  </p:nvSpPr>
                  <p:spPr>
                    <a:xfrm rot="13639200">
                      <a:off x="127440" y="5226840"/>
                      <a:ext cx="165600" cy="320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760" bIns="-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Rectangle 166"/>
                    <p:cNvSpPr/>
                    <p:nvPr/>
                  </p:nvSpPr>
                  <p:spPr>
                    <a:xfrm rot="13639200">
                      <a:off x="161640" y="5195160"/>
                      <a:ext cx="167400" cy="320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760" bIns="-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01" name="Group 167"/>
                <p:cNvGrpSpPr/>
                <p:nvPr/>
              </p:nvGrpSpPr>
              <p:grpSpPr>
                <a:xfrm>
                  <a:off x="-2160" y="4412520"/>
                  <a:ext cx="448200" cy="438840"/>
                  <a:chOff x="-2160" y="4412520"/>
                  <a:chExt cx="448200" cy="438840"/>
                </a:xfrm>
              </p:grpSpPr>
              <p:grpSp>
                <p:nvGrpSpPr>
                  <p:cNvPr id="202" name="Group 168"/>
                  <p:cNvGrpSpPr/>
                  <p:nvPr/>
                </p:nvGrpSpPr>
                <p:grpSpPr>
                  <a:xfrm>
                    <a:off x="237240" y="4540680"/>
                    <a:ext cx="208800" cy="207000"/>
                    <a:chOff x="237240" y="4540680"/>
                    <a:chExt cx="208800" cy="207000"/>
                  </a:xfrm>
                </p:grpSpPr>
                <p:sp>
                  <p:nvSpPr>
                    <p:cNvPr id="203" name="Rectangle 169"/>
                    <p:cNvSpPr/>
                    <p:nvPr/>
                  </p:nvSpPr>
                  <p:spPr>
                    <a:xfrm rot="19039200">
                      <a:off x="224280" y="459468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Rectangle 170"/>
                    <p:cNvSpPr/>
                    <p:nvPr/>
                  </p:nvSpPr>
                  <p:spPr>
                    <a:xfrm rot="19039200">
                      <a:off x="255960" y="462960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Rectangle 171"/>
                    <p:cNvSpPr/>
                    <p:nvPr/>
                  </p:nvSpPr>
                  <p:spPr>
                    <a:xfrm rot="19039200">
                      <a:off x="286200" y="466308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6" name="Group 172"/>
                  <p:cNvGrpSpPr/>
                  <p:nvPr/>
                </p:nvGrpSpPr>
                <p:grpSpPr>
                  <a:xfrm>
                    <a:off x="-2160" y="4516920"/>
                    <a:ext cx="209160" cy="207000"/>
                    <a:chOff x="-2160" y="4516920"/>
                    <a:chExt cx="209160" cy="207000"/>
                  </a:xfrm>
                </p:grpSpPr>
                <p:sp>
                  <p:nvSpPr>
                    <p:cNvPr id="207" name="Rectangle 173"/>
                    <p:cNvSpPr/>
                    <p:nvPr/>
                  </p:nvSpPr>
                  <p:spPr>
                    <a:xfrm rot="19039200">
                      <a:off x="-14760" y="457092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Rectangle 174"/>
                    <p:cNvSpPr/>
                    <p:nvPr/>
                  </p:nvSpPr>
                  <p:spPr>
                    <a:xfrm rot="19039200">
                      <a:off x="16920" y="460584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Rectangle 175"/>
                    <p:cNvSpPr/>
                    <p:nvPr/>
                  </p:nvSpPr>
                  <p:spPr>
                    <a:xfrm rot="19039200">
                      <a:off x="47160" y="463932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Group 176"/>
                  <p:cNvGrpSpPr/>
                  <p:nvPr/>
                </p:nvGrpSpPr>
                <p:grpSpPr>
                  <a:xfrm>
                    <a:off x="131760" y="4412520"/>
                    <a:ext cx="207720" cy="205560"/>
                    <a:chOff x="131760" y="4412520"/>
                    <a:chExt cx="207720" cy="205560"/>
                  </a:xfrm>
                </p:grpSpPr>
                <p:sp>
                  <p:nvSpPr>
                    <p:cNvPr id="211" name="Rectangle 177"/>
                    <p:cNvSpPr/>
                    <p:nvPr/>
                  </p:nvSpPr>
                  <p:spPr>
                    <a:xfrm rot="13639200">
                      <a:off x="116280" y="4531320"/>
                      <a:ext cx="16596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Rectangle 178"/>
                    <p:cNvSpPr/>
                    <p:nvPr/>
                  </p:nvSpPr>
                  <p:spPr>
                    <a:xfrm rot="13639200">
                      <a:off x="153000" y="4500720"/>
                      <a:ext cx="16596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Rectangle 179"/>
                    <p:cNvSpPr/>
                    <p:nvPr/>
                  </p:nvSpPr>
                  <p:spPr>
                    <a:xfrm rot="13639200">
                      <a:off x="187920" y="4468680"/>
                      <a:ext cx="16740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4" name="Group 180"/>
                  <p:cNvGrpSpPr/>
                  <p:nvPr/>
                </p:nvGrpSpPr>
                <p:grpSpPr>
                  <a:xfrm>
                    <a:off x="108000" y="4646160"/>
                    <a:ext cx="207360" cy="205200"/>
                    <a:chOff x="108000" y="4646160"/>
                    <a:chExt cx="207360" cy="205200"/>
                  </a:xfrm>
                </p:grpSpPr>
                <p:sp>
                  <p:nvSpPr>
                    <p:cNvPr id="215" name="Rectangle 181"/>
                    <p:cNvSpPr/>
                    <p:nvPr/>
                  </p:nvSpPr>
                  <p:spPr>
                    <a:xfrm rot="13639200">
                      <a:off x="92520" y="4764600"/>
                      <a:ext cx="16596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Rectangle 182"/>
                    <p:cNvSpPr/>
                    <p:nvPr/>
                  </p:nvSpPr>
                  <p:spPr>
                    <a:xfrm rot="13639200">
                      <a:off x="129240" y="4734000"/>
                      <a:ext cx="16596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Rectangle 183"/>
                    <p:cNvSpPr/>
                    <p:nvPr/>
                  </p:nvSpPr>
                  <p:spPr>
                    <a:xfrm rot="13639200">
                      <a:off x="163800" y="4702320"/>
                      <a:ext cx="16740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18" name="Group 184"/>
                <p:cNvGrpSpPr/>
                <p:nvPr/>
              </p:nvGrpSpPr>
              <p:grpSpPr>
                <a:xfrm>
                  <a:off x="0" y="3918600"/>
                  <a:ext cx="447840" cy="439560"/>
                  <a:chOff x="0" y="3918600"/>
                  <a:chExt cx="447840" cy="439560"/>
                </a:xfrm>
              </p:grpSpPr>
              <p:grpSp>
                <p:nvGrpSpPr>
                  <p:cNvPr id="219" name="Group 185"/>
                  <p:cNvGrpSpPr/>
                  <p:nvPr/>
                </p:nvGrpSpPr>
                <p:grpSpPr>
                  <a:xfrm>
                    <a:off x="238680" y="4045680"/>
                    <a:ext cx="209160" cy="207000"/>
                    <a:chOff x="238680" y="4045680"/>
                    <a:chExt cx="209160" cy="207000"/>
                  </a:xfrm>
                </p:grpSpPr>
                <p:sp>
                  <p:nvSpPr>
                    <p:cNvPr id="220" name="Rectangle 186"/>
                    <p:cNvSpPr/>
                    <p:nvPr/>
                  </p:nvSpPr>
                  <p:spPr>
                    <a:xfrm rot="19039200">
                      <a:off x="226080" y="4100040"/>
                      <a:ext cx="17244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Rectangle 187"/>
                    <p:cNvSpPr/>
                    <p:nvPr/>
                  </p:nvSpPr>
                  <p:spPr>
                    <a:xfrm rot="19039200">
                      <a:off x="256320" y="4133880"/>
                      <a:ext cx="17244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Rectangle 188"/>
                    <p:cNvSpPr/>
                    <p:nvPr/>
                  </p:nvSpPr>
                  <p:spPr>
                    <a:xfrm rot="19039200">
                      <a:off x="287640" y="4167720"/>
                      <a:ext cx="17244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3" name="Group 189"/>
                  <p:cNvGrpSpPr/>
                  <p:nvPr/>
                </p:nvGrpSpPr>
                <p:grpSpPr>
                  <a:xfrm>
                    <a:off x="0" y="4022640"/>
                    <a:ext cx="210240" cy="208800"/>
                    <a:chOff x="0" y="4022640"/>
                    <a:chExt cx="210240" cy="208800"/>
                  </a:xfrm>
                </p:grpSpPr>
                <p:sp>
                  <p:nvSpPr>
                    <p:cNvPr id="224" name="Rectangle 190"/>
                    <p:cNvSpPr/>
                    <p:nvPr/>
                  </p:nvSpPr>
                  <p:spPr>
                    <a:xfrm rot="19039200">
                      <a:off x="-12600" y="4077000"/>
                      <a:ext cx="17244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Rectangle 191"/>
                    <p:cNvSpPr/>
                    <p:nvPr/>
                  </p:nvSpPr>
                  <p:spPr>
                    <a:xfrm rot="19039200">
                      <a:off x="17280" y="4111560"/>
                      <a:ext cx="172800" cy="316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Rectangle 192"/>
                    <p:cNvSpPr/>
                    <p:nvPr/>
                  </p:nvSpPr>
                  <p:spPr>
                    <a:xfrm rot="19039200">
                      <a:off x="48960" y="4146120"/>
                      <a:ext cx="17424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7" name="Group 193"/>
                  <p:cNvGrpSpPr/>
                  <p:nvPr/>
                </p:nvGrpSpPr>
                <p:grpSpPr>
                  <a:xfrm>
                    <a:off x="133560" y="3918600"/>
                    <a:ext cx="206640" cy="207360"/>
                    <a:chOff x="133560" y="3918600"/>
                    <a:chExt cx="206640" cy="207360"/>
                  </a:xfrm>
                </p:grpSpPr>
                <p:sp>
                  <p:nvSpPr>
                    <p:cNvPr id="228" name="Rectangle 194"/>
                    <p:cNvSpPr/>
                    <p:nvPr/>
                  </p:nvSpPr>
                  <p:spPr>
                    <a:xfrm rot="13639200">
                      <a:off x="117720" y="4039560"/>
                      <a:ext cx="1666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Rectangle 195"/>
                    <p:cNvSpPr/>
                    <p:nvPr/>
                  </p:nvSpPr>
                  <p:spPr>
                    <a:xfrm rot="13639200">
                      <a:off x="154080" y="4009680"/>
                      <a:ext cx="1666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Rectangle 196"/>
                    <p:cNvSpPr/>
                    <p:nvPr/>
                  </p:nvSpPr>
                  <p:spPr>
                    <a:xfrm rot="13639200">
                      <a:off x="187920" y="3975480"/>
                      <a:ext cx="16812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Group 197"/>
                  <p:cNvGrpSpPr/>
                  <p:nvPr/>
                </p:nvGrpSpPr>
                <p:grpSpPr>
                  <a:xfrm>
                    <a:off x="107640" y="4148280"/>
                    <a:ext cx="208440" cy="209880"/>
                    <a:chOff x="107640" y="4148280"/>
                    <a:chExt cx="208440" cy="209880"/>
                  </a:xfrm>
                </p:grpSpPr>
                <p:sp>
                  <p:nvSpPr>
                    <p:cNvPr id="232" name="Rectangle 198"/>
                    <p:cNvSpPr/>
                    <p:nvPr/>
                  </p:nvSpPr>
                  <p:spPr>
                    <a:xfrm rot="13639200">
                      <a:off x="91800" y="4270320"/>
                      <a:ext cx="167400" cy="3096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840" bIns="-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Rectangle 199"/>
                    <p:cNvSpPr/>
                    <p:nvPr/>
                  </p:nvSpPr>
                  <p:spPr>
                    <a:xfrm rot="13639200">
                      <a:off x="128160" y="4238280"/>
                      <a:ext cx="167400" cy="324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0" bIns="-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Rectangle 200"/>
                    <p:cNvSpPr/>
                    <p:nvPr/>
                  </p:nvSpPr>
                  <p:spPr>
                    <a:xfrm rot="13639200">
                      <a:off x="162720" y="4205520"/>
                      <a:ext cx="169200" cy="3096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840" bIns="-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5" name="Group 201"/>
                <p:cNvGrpSpPr/>
                <p:nvPr/>
              </p:nvGrpSpPr>
              <p:grpSpPr>
                <a:xfrm>
                  <a:off x="-2520" y="3426120"/>
                  <a:ext cx="447480" cy="437400"/>
                  <a:chOff x="-2520" y="3426120"/>
                  <a:chExt cx="447480" cy="437400"/>
                </a:xfrm>
              </p:grpSpPr>
              <p:grpSp>
                <p:nvGrpSpPr>
                  <p:cNvPr id="236" name="Group 202"/>
                  <p:cNvGrpSpPr/>
                  <p:nvPr/>
                </p:nvGrpSpPr>
                <p:grpSpPr>
                  <a:xfrm>
                    <a:off x="236520" y="3553920"/>
                    <a:ext cx="208440" cy="206280"/>
                    <a:chOff x="236520" y="3553920"/>
                    <a:chExt cx="208440" cy="206280"/>
                  </a:xfrm>
                </p:grpSpPr>
                <p:sp>
                  <p:nvSpPr>
                    <p:cNvPr id="237" name="Rectangle 203"/>
                    <p:cNvSpPr/>
                    <p:nvPr/>
                  </p:nvSpPr>
                  <p:spPr>
                    <a:xfrm rot="19039200">
                      <a:off x="223920" y="360792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Rectangle 204"/>
                    <p:cNvSpPr/>
                    <p:nvPr/>
                  </p:nvSpPr>
                  <p:spPr>
                    <a:xfrm rot="19039200">
                      <a:off x="254520" y="3642120"/>
                      <a:ext cx="17208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Rectangle 205"/>
                    <p:cNvSpPr/>
                    <p:nvPr/>
                  </p:nvSpPr>
                  <p:spPr>
                    <a:xfrm rot="19039200">
                      <a:off x="285480" y="367524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Group 206"/>
                  <p:cNvGrpSpPr/>
                  <p:nvPr/>
                </p:nvGrpSpPr>
                <p:grpSpPr>
                  <a:xfrm>
                    <a:off x="-2520" y="3530520"/>
                    <a:ext cx="208440" cy="206280"/>
                    <a:chOff x="-2520" y="3530520"/>
                    <a:chExt cx="208440" cy="206280"/>
                  </a:xfrm>
                </p:grpSpPr>
                <p:sp>
                  <p:nvSpPr>
                    <p:cNvPr id="241" name="Rectangle 207"/>
                    <p:cNvSpPr/>
                    <p:nvPr/>
                  </p:nvSpPr>
                  <p:spPr>
                    <a:xfrm rot="19039200">
                      <a:off x="-14760" y="358452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Rectangle 208"/>
                    <p:cNvSpPr/>
                    <p:nvPr/>
                  </p:nvSpPr>
                  <p:spPr>
                    <a:xfrm rot="19039200">
                      <a:off x="15840" y="361836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Rectangle 209"/>
                    <p:cNvSpPr/>
                    <p:nvPr/>
                  </p:nvSpPr>
                  <p:spPr>
                    <a:xfrm rot="19039200">
                      <a:off x="46440" y="365184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4" name="Group 210"/>
                  <p:cNvGrpSpPr/>
                  <p:nvPr/>
                </p:nvGrpSpPr>
                <p:grpSpPr>
                  <a:xfrm>
                    <a:off x="131040" y="3426120"/>
                    <a:ext cx="207720" cy="205200"/>
                    <a:chOff x="131040" y="3426120"/>
                    <a:chExt cx="207720" cy="205200"/>
                  </a:xfrm>
                </p:grpSpPr>
                <p:sp>
                  <p:nvSpPr>
                    <p:cNvPr id="245" name="Rectangle 211"/>
                    <p:cNvSpPr/>
                    <p:nvPr/>
                  </p:nvSpPr>
                  <p:spPr>
                    <a:xfrm rot="13639200">
                      <a:off x="115200" y="3545280"/>
                      <a:ext cx="16560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Rectangle 212"/>
                    <p:cNvSpPr/>
                    <p:nvPr/>
                  </p:nvSpPr>
                  <p:spPr>
                    <a:xfrm rot="13639200">
                      <a:off x="151920" y="3515400"/>
                      <a:ext cx="16524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Rectangle 213"/>
                    <p:cNvSpPr/>
                    <p:nvPr/>
                  </p:nvSpPr>
                  <p:spPr>
                    <a:xfrm rot="13639200">
                      <a:off x="187560" y="3482280"/>
                      <a:ext cx="16704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Group 214"/>
                  <p:cNvGrpSpPr/>
                  <p:nvPr/>
                </p:nvGrpSpPr>
                <p:grpSpPr>
                  <a:xfrm>
                    <a:off x="107640" y="3659400"/>
                    <a:ext cx="206640" cy="204120"/>
                    <a:chOff x="107640" y="3659400"/>
                    <a:chExt cx="206640" cy="204120"/>
                  </a:xfrm>
                </p:grpSpPr>
                <p:sp>
                  <p:nvSpPr>
                    <p:cNvPr id="249" name="Rectangle 215"/>
                    <p:cNvSpPr/>
                    <p:nvPr/>
                  </p:nvSpPr>
                  <p:spPr>
                    <a:xfrm rot="13639200">
                      <a:off x="91800" y="3777480"/>
                      <a:ext cx="1648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Rectangle 216"/>
                    <p:cNvSpPr/>
                    <p:nvPr/>
                  </p:nvSpPr>
                  <p:spPr>
                    <a:xfrm rot="13639200">
                      <a:off x="128880" y="3747240"/>
                      <a:ext cx="1648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Rectangle 217"/>
                    <p:cNvSpPr/>
                    <p:nvPr/>
                  </p:nvSpPr>
                  <p:spPr>
                    <a:xfrm rot="13639200">
                      <a:off x="163080" y="3715560"/>
                      <a:ext cx="1666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2" name="Group 218"/>
                <p:cNvGrpSpPr/>
                <p:nvPr/>
              </p:nvGrpSpPr>
              <p:grpSpPr>
                <a:xfrm>
                  <a:off x="-2160" y="5889960"/>
                  <a:ext cx="447120" cy="437040"/>
                  <a:chOff x="-2160" y="5889960"/>
                  <a:chExt cx="447120" cy="437040"/>
                </a:xfrm>
              </p:grpSpPr>
              <p:grpSp>
                <p:nvGrpSpPr>
                  <p:cNvPr id="253" name="Group 219"/>
                  <p:cNvGrpSpPr/>
                  <p:nvPr/>
                </p:nvGrpSpPr>
                <p:grpSpPr>
                  <a:xfrm>
                    <a:off x="235800" y="6017040"/>
                    <a:ext cx="209160" cy="207000"/>
                    <a:chOff x="235800" y="6017040"/>
                    <a:chExt cx="209160" cy="207000"/>
                  </a:xfrm>
                </p:grpSpPr>
                <p:sp>
                  <p:nvSpPr>
                    <p:cNvPr id="254" name="Rectangle 220"/>
                    <p:cNvSpPr/>
                    <p:nvPr/>
                  </p:nvSpPr>
                  <p:spPr>
                    <a:xfrm rot="19039200">
                      <a:off x="222840" y="607104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Rectangle 221"/>
                    <p:cNvSpPr/>
                    <p:nvPr/>
                  </p:nvSpPr>
                  <p:spPr>
                    <a:xfrm rot="19039200">
                      <a:off x="254520" y="610632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Rectangle 222"/>
                    <p:cNvSpPr/>
                    <p:nvPr/>
                  </p:nvSpPr>
                  <p:spPr>
                    <a:xfrm rot="19039200">
                      <a:off x="285120" y="613944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Group 223"/>
                  <p:cNvGrpSpPr/>
                  <p:nvPr/>
                </p:nvGrpSpPr>
                <p:grpSpPr>
                  <a:xfrm>
                    <a:off x="-2160" y="5994000"/>
                    <a:ext cx="210240" cy="208800"/>
                    <a:chOff x="-2160" y="5994000"/>
                    <a:chExt cx="210240" cy="208800"/>
                  </a:xfrm>
                </p:grpSpPr>
                <p:sp>
                  <p:nvSpPr>
                    <p:cNvPr id="258" name="Rectangle 224"/>
                    <p:cNvSpPr/>
                    <p:nvPr/>
                  </p:nvSpPr>
                  <p:spPr>
                    <a:xfrm rot="19039200">
                      <a:off x="-14760" y="604800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Rectangle 225"/>
                    <p:cNvSpPr/>
                    <p:nvPr/>
                  </p:nvSpPr>
                  <p:spPr>
                    <a:xfrm rot="19039200">
                      <a:off x="15120" y="6082560"/>
                      <a:ext cx="172080" cy="316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Rectangle 226"/>
                    <p:cNvSpPr/>
                    <p:nvPr/>
                  </p:nvSpPr>
                  <p:spPr>
                    <a:xfrm rot="19039200">
                      <a:off x="47160" y="6117840"/>
                      <a:ext cx="17352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1" name="Group 227"/>
                  <p:cNvGrpSpPr/>
                  <p:nvPr/>
                </p:nvGrpSpPr>
                <p:grpSpPr>
                  <a:xfrm>
                    <a:off x="130320" y="5889960"/>
                    <a:ext cx="207360" cy="205200"/>
                    <a:chOff x="130320" y="5889960"/>
                    <a:chExt cx="207360" cy="205200"/>
                  </a:xfrm>
                </p:grpSpPr>
                <p:sp>
                  <p:nvSpPr>
                    <p:cNvPr id="262" name="Rectangle 228"/>
                    <p:cNvSpPr/>
                    <p:nvPr/>
                  </p:nvSpPr>
                  <p:spPr>
                    <a:xfrm rot="13639200">
                      <a:off x="114480" y="6009120"/>
                      <a:ext cx="16560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Rectangle 229"/>
                    <p:cNvSpPr/>
                    <p:nvPr/>
                  </p:nvSpPr>
                  <p:spPr>
                    <a:xfrm rot="13639200">
                      <a:off x="150840" y="5978880"/>
                      <a:ext cx="16560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Rectangle 230"/>
                    <p:cNvSpPr/>
                    <p:nvPr/>
                  </p:nvSpPr>
                  <p:spPr>
                    <a:xfrm rot="13639200">
                      <a:off x="186480" y="5946120"/>
                      <a:ext cx="16704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5" name="Group 231"/>
                  <p:cNvGrpSpPr/>
                  <p:nvPr/>
                </p:nvGrpSpPr>
                <p:grpSpPr>
                  <a:xfrm>
                    <a:off x="105120" y="6121080"/>
                    <a:ext cx="208440" cy="205920"/>
                    <a:chOff x="105120" y="6121080"/>
                    <a:chExt cx="208440" cy="205920"/>
                  </a:xfrm>
                </p:grpSpPr>
                <p:sp>
                  <p:nvSpPr>
                    <p:cNvPr id="266" name="Rectangle 232"/>
                    <p:cNvSpPr/>
                    <p:nvPr/>
                  </p:nvSpPr>
                  <p:spPr>
                    <a:xfrm rot="13639200">
                      <a:off x="90000" y="6239160"/>
                      <a:ext cx="165600" cy="320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760" bIns="-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" name="Rectangle 233"/>
                    <p:cNvSpPr/>
                    <p:nvPr/>
                  </p:nvSpPr>
                  <p:spPr>
                    <a:xfrm rot="13639200">
                      <a:off x="126720" y="6208920"/>
                      <a:ext cx="165600" cy="320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760" bIns="-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Rectangle 234"/>
                    <p:cNvSpPr/>
                    <p:nvPr/>
                  </p:nvSpPr>
                  <p:spPr>
                    <a:xfrm rot="13639200">
                      <a:off x="161640" y="6176880"/>
                      <a:ext cx="167040" cy="320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760" bIns="-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9" name="Group 235"/>
                <p:cNvGrpSpPr/>
                <p:nvPr/>
              </p:nvGrpSpPr>
              <p:grpSpPr>
                <a:xfrm>
                  <a:off x="-2520" y="6382080"/>
                  <a:ext cx="447840" cy="438480"/>
                  <a:chOff x="-2520" y="6382080"/>
                  <a:chExt cx="447840" cy="438480"/>
                </a:xfrm>
              </p:grpSpPr>
              <p:grpSp>
                <p:nvGrpSpPr>
                  <p:cNvPr id="270" name="Group 236"/>
                  <p:cNvGrpSpPr/>
                  <p:nvPr/>
                </p:nvGrpSpPr>
                <p:grpSpPr>
                  <a:xfrm>
                    <a:off x="236520" y="6510240"/>
                    <a:ext cx="208800" cy="207000"/>
                    <a:chOff x="236520" y="6510240"/>
                    <a:chExt cx="208800" cy="207000"/>
                  </a:xfrm>
                </p:grpSpPr>
                <p:sp>
                  <p:nvSpPr>
                    <p:cNvPr id="271" name="Rectangle 237"/>
                    <p:cNvSpPr/>
                    <p:nvPr/>
                  </p:nvSpPr>
                  <p:spPr>
                    <a:xfrm rot="19039200">
                      <a:off x="223560" y="656424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Rectangle 238"/>
                    <p:cNvSpPr/>
                    <p:nvPr/>
                  </p:nvSpPr>
                  <p:spPr>
                    <a:xfrm rot="19039200">
                      <a:off x="254880" y="659952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Rectangle 239"/>
                    <p:cNvSpPr/>
                    <p:nvPr/>
                  </p:nvSpPr>
                  <p:spPr>
                    <a:xfrm rot="19039200">
                      <a:off x="285480" y="663264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4" name="Group 240"/>
                  <p:cNvGrpSpPr/>
                  <p:nvPr/>
                </p:nvGrpSpPr>
                <p:grpSpPr>
                  <a:xfrm>
                    <a:off x="-2520" y="6486480"/>
                    <a:ext cx="209160" cy="207000"/>
                    <a:chOff x="-2520" y="6486480"/>
                    <a:chExt cx="209160" cy="207000"/>
                  </a:xfrm>
                </p:grpSpPr>
                <p:sp>
                  <p:nvSpPr>
                    <p:cNvPr id="275" name="Rectangle 241"/>
                    <p:cNvSpPr/>
                    <p:nvPr/>
                  </p:nvSpPr>
                  <p:spPr>
                    <a:xfrm rot="19039200">
                      <a:off x="-15120" y="654048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Rectangle 242"/>
                    <p:cNvSpPr/>
                    <p:nvPr/>
                  </p:nvSpPr>
                  <p:spPr>
                    <a:xfrm rot="19039200">
                      <a:off x="16560" y="657540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Rectangle 243"/>
                    <p:cNvSpPr/>
                    <p:nvPr/>
                  </p:nvSpPr>
                  <p:spPr>
                    <a:xfrm rot="19039200">
                      <a:off x="46800" y="660888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Group 244"/>
                  <p:cNvGrpSpPr/>
                  <p:nvPr/>
                </p:nvGrpSpPr>
                <p:grpSpPr>
                  <a:xfrm>
                    <a:off x="131400" y="6382080"/>
                    <a:ext cx="207360" cy="205200"/>
                    <a:chOff x="131400" y="6382080"/>
                    <a:chExt cx="207360" cy="205200"/>
                  </a:xfrm>
                </p:grpSpPr>
                <p:sp>
                  <p:nvSpPr>
                    <p:cNvPr id="279" name="Rectangle 245"/>
                    <p:cNvSpPr/>
                    <p:nvPr/>
                  </p:nvSpPr>
                  <p:spPr>
                    <a:xfrm rot="13639200">
                      <a:off x="115920" y="6500880"/>
                      <a:ext cx="16596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Rectangle 246"/>
                    <p:cNvSpPr/>
                    <p:nvPr/>
                  </p:nvSpPr>
                  <p:spPr>
                    <a:xfrm rot="13639200">
                      <a:off x="152640" y="6470280"/>
                      <a:ext cx="16596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Rectangle 247"/>
                    <p:cNvSpPr/>
                    <p:nvPr/>
                  </p:nvSpPr>
                  <p:spPr>
                    <a:xfrm rot="13639200">
                      <a:off x="186840" y="6438600"/>
                      <a:ext cx="16740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2" name="Group 248"/>
                  <p:cNvGrpSpPr/>
                  <p:nvPr/>
                </p:nvGrpSpPr>
                <p:grpSpPr>
                  <a:xfrm>
                    <a:off x="106920" y="6615360"/>
                    <a:ext cx="207720" cy="205200"/>
                    <a:chOff x="106920" y="6615360"/>
                    <a:chExt cx="207720" cy="205200"/>
                  </a:xfrm>
                </p:grpSpPr>
                <p:sp>
                  <p:nvSpPr>
                    <p:cNvPr id="283" name="Rectangle 249"/>
                    <p:cNvSpPr/>
                    <p:nvPr/>
                  </p:nvSpPr>
                  <p:spPr>
                    <a:xfrm rot="13639200">
                      <a:off x="91080" y="6734520"/>
                      <a:ext cx="16560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Rectangle 250"/>
                    <p:cNvSpPr/>
                    <p:nvPr/>
                  </p:nvSpPr>
                  <p:spPr>
                    <a:xfrm rot="13639200">
                      <a:off x="128880" y="6703560"/>
                      <a:ext cx="165600" cy="316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Rectangle 251"/>
                    <p:cNvSpPr/>
                    <p:nvPr/>
                  </p:nvSpPr>
                  <p:spPr>
                    <a:xfrm rot="13639200">
                      <a:off x="163440" y="6671520"/>
                      <a:ext cx="16704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4419"/>
                </a:solidFill>
                <a:latin typeface="Optima"/>
              </a:rPr>
              <a:t>Click to edit the title text format</a:t>
            </a:r>
            <a:endParaRPr b="1" lang="en-US" sz="3200" spc="-1" strike="noStrike">
              <a:solidFill>
                <a:srgbClr val="6b4419"/>
              </a:solidFill>
              <a:latin typeface="Opti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71640" y="1413000"/>
            <a:ext cx="79214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6b4419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4419"/>
                </a:solidFill>
                <a:latin typeface="Optima"/>
              </a:rPr>
              <a:t>Click to edit the outline text format</a:t>
            </a:r>
            <a:endParaRPr b="0" lang="en-US" sz="2400" spc="-1" strike="noStrike">
              <a:solidFill>
                <a:srgbClr val="6b4419"/>
              </a:solidFill>
              <a:latin typeface="Opti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6b4419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4419"/>
                </a:solidFill>
                <a:latin typeface="Optima"/>
              </a:rPr>
              <a:t>Second Outline Level</a:t>
            </a:r>
            <a:endParaRPr b="0" lang="en-US" sz="2400" spc="-1" strike="noStrike">
              <a:solidFill>
                <a:srgbClr val="6b4419"/>
              </a:solidFill>
              <a:latin typeface="Opti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6b4419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4419"/>
                </a:solidFill>
                <a:latin typeface="Optima"/>
              </a:rPr>
              <a:t>Third Outline Level</a:t>
            </a:r>
            <a:endParaRPr b="0" lang="en-US" sz="2400" spc="-1" strike="noStrike">
              <a:solidFill>
                <a:srgbClr val="6b4419"/>
              </a:solidFill>
              <a:latin typeface="Optima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6b4419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4419"/>
                </a:solidFill>
                <a:latin typeface="Optima"/>
              </a:rPr>
              <a:t>Fourth Outline Level</a:t>
            </a:r>
            <a:endParaRPr b="0" lang="en-US" sz="2400" spc="-1" strike="noStrike">
              <a:solidFill>
                <a:srgbClr val="6b4419"/>
              </a:solidFill>
              <a:latin typeface="Optima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6b4419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4419"/>
                </a:solidFill>
                <a:latin typeface="Optima"/>
              </a:rPr>
              <a:t>Fifth Outline Level</a:t>
            </a:r>
            <a:endParaRPr b="0" lang="en-US" sz="2400" spc="-1" strike="noStrike">
              <a:solidFill>
                <a:srgbClr val="6b4419"/>
              </a:solidFill>
              <a:latin typeface="Optima"/>
            </a:endParaRPr>
          </a:p>
          <a:p>
            <a:pPr lvl="5" marL="2057400" indent="-228600" algn="just">
              <a:spcBef>
                <a:spcPts val="601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4419"/>
                </a:solidFill>
                <a:latin typeface="Optima"/>
              </a:rPr>
              <a:t>Sixth Outline Level</a:t>
            </a:r>
            <a:endParaRPr b="0" lang="en-US" sz="2400" spc="-1" strike="noStrike">
              <a:solidFill>
                <a:srgbClr val="6b4419"/>
              </a:solidFill>
              <a:latin typeface="Optima"/>
            </a:endParaRPr>
          </a:p>
          <a:p>
            <a:pPr lvl="6" marL="2057400" indent="-228600" algn="just">
              <a:spcBef>
                <a:spcPts val="601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4419"/>
                </a:solidFill>
                <a:latin typeface="Optima"/>
              </a:rPr>
              <a:t>Seventh Outline Level</a:t>
            </a:r>
            <a:endParaRPr b="0" lang="en-US" sz="2400" spc="-1" strike="noStrike">
              <a:solidFill>
                <a:srgbClr val="6b4419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hyperlink" Target="http://www.cife.ws/" TargetMode="External"/><Relationship Id="rId5" Type="http://schemas.openxmlformats.org/officeDocument/2006/relationships/hyperlink" Target="http://www.viveduc.cl/" TargetMode="External"/><Relationship Id="rId6" Type="http://schemas.openxmlformats.org/officeDocument/2006/relationships/hyperlink" Target="http://www.exiccom.org/" TargetMode="External"/><Relationship Id="rId7" Type="http://schemas.openxmlformats.org/officeDocument/2006/relationships/hyperlink" Target="http://www.ricie.org/" TargetMode="Externa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mailto:stobon@cife.ws" TargetMode="External"/><Relationship Id="rId2" Type="http://schemas.openxmlformats.org/officeDocument/2006/relationships/hyperlink" Target="http://www.cife.ws/" TargetMode="External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4"/>
          <p:cNvGrpSpPr/>
          <p:nvPr/>
        </p:nvGrpSpPr>
        <p:grpSpPr>
          <a:xfrm>
            <a:off x="785880" y="419040"/>
            <a:ext cx="8107200" cy="6226560"/>
            <a:chOff x="785880" y="419040"/>
            <a:chExt cx="8107200" cy="6226560"/>
          </a:xfrm>
        </p:grpSpPr>
        <p:sp>
          <p:nvSpPr>
            <p:cNvPr id="370" name="Text Box 5"/>
            <p:cNvSpPr/>
            <p:nvPr/>
          </p:nvSpPr>
          <p:spPr>
            <a:xfrm>
              <a:off x="971640" y="1755720"/>
              <a:ext cx="79214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400" spc="-1" strike="noStrike">
                  <a:solidFill>
                    <a:srgbClr val="6b4419"/>
                  </a:solidFill>
                  <a:latin typeface="Optima"/>
                </a:rPr>
                <a:t>PRIMER CONGRESO INTERNACIONAL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6"/>
            <p:cNvSpPr/>
            <p:nvPr/>
          </p:nvSpPr>
          <p:spPr>
            <a:xfrm>
              <a:off x="971640" y="2382840"/>
              <a:ext cx="792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6b4419"/>
                  </a:solidFill>
                  <a:latin typeface="Optima"/>
                </a:rPr>
                <a:t>“</a:t>
              </a:r>
              <a:r>
                <a:rPr b="1" lang="es-MX" sz="2400" spc="-1" strike="noStrike">
                  <a:solidFill>
                    <a:srgbClr val="6b4419"/>
                  </a:solidFill>
                  <a:latin typeface="Optima"/>
                </a:rPr>
                <a:t>COMPETENCIAS EN LA EDUCACIÓN DEL SIGLO XXI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Text Box 7"/>
            <p:cNvSpPr/>
            <p:nvPr/>
          </p:nvSpPr>
          <p:spPr>
            <a:xfrm>
              <a:off x="785880" y="2857680"/>
              <a:ext cx="792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b4419"/>
                  </a:solidFill>
                  <a:latin typeface="Optima"/>
                </a:rPr>
                <a:t>“</a:t>
              </a:r>
              <a:r>
                <a:rPr b="1" lang="es-MX" sz="2000" spc="-1" strike="noStrike">
                  <a:solidFill>
                    <a:srgbClr val="6b4419"/>
                  </a:solidFill>
                  <a:latin typeface="Optima"/>
                </a:rPr>
                <a:t>Saber hacer para enseñar mejor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8"/>
            <p:cNvSpPr/>
            <p:nvPr/>
          </p:nvSpPr>
          <p:spPr>
            <a:xfrm>
              <a:off x="1131840" y="3711600"/>
              <a:ext cx="7215120" cy="17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6b4419"/>
                  </a:solidFill>
                  <a:latin typeface="Optima"/>
                </a:rPr>
                <a:t>CONFERENCIA MAGISTR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6b4419"/>
                  </a:solidFill>
                  <a:latin typeface="Optima"/>
                </a:rPr>
                <a:t>“</a:t>
              </a:r>
              <a:r>
                <a:rPr b="1" lang="es-ES_tradnl" sz="3200" spc="-1" strike="noStrike">
                  <a:solidFill>
                    <a:srgbClr val="6b4419"/>
                  </a:solidFill>
                  <a:latin typeface="Optima"/>
                </a:rPr>
                <a:t>Evaluación por Competencias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b4419"/>
                  </a:solidFill>
                  <a:latin typeface="Optima"/>
                </a:rPr>
                <a:t>   </a:t>
              </a:r>
              <a:r>
                <a:rPr b="1" lang="es-ES_tradnl" sz="2400" spc="-1" strike="noStrike">
                  <a:solidFill>
                    <a:srgbClr val="6b4419"/>
                  </a:solidFill>
                  <a:latin typeface="Optima"/>
                </a:rPr>
                <a:t>Dr. Sergio Tobón Tobón (Colombi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9"/>
            <p:cNvSpPr/>
            <p:nvPr/>
          </p:nvSpPr>
          <p:spPr>
            <a:xfrm>
              <a:off x="971640" y="5961240"/>
              <a:ext cx="792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b4419"/>
                  </a:solidFill>
                  <a:latin typeface="Optima"/>
                </a:rPr>
                <a:t>Universidad Anáhuac México - Nor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0"/>
            <p:cNvSpPr/>
            <p:nvPr/>
          </p:nvSpPr>
          <p:spPr>
            <a:xfrm>
              <a:off x="971640" y="6246720"/>
              <a:ext cx="792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b4419"/>
                  </a:solidFill>
                  <a:latin typeface="Optima"/>
                </a:rPr>
                <a:t>12 de julio de 2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Group 11"/>
            <p:cNvGrpSpPr/>
            <p:nvPr/>
          </p:nvGrpSpPr>
          <p:grpSpPr>
            <a:xfrm>
              <a:off x="987480" y="419040"/>
              <a:ext cx="7864200" cy="873000"/>
              <a:chOff x="987480" y="419040"/>
              <a:chExt cx="7864200" cy="873000"/>
            </a:xfrm>
          </p:grpSpPr>
          <p:pic>
            <p:nvPicPr>
              <p:cNvPr id="377" name="Imagen 1" descr="C:\Documents and Settings\capmx102\Escritorio\Logo SEA 10 años.GIF"/>
              <p:cNvPicPr/>
              <p:nvPr/>
            </p:nvPicPr>
            <p:blipFill>
              <a:blip r:embed="rId1"/>
              <a:stretch/>
            </p:blipFill>
            <p:spPr>
              <a:xfrm>
                <a:off x="987480" y="440640"/>
                <a:ext cx="1895040" cy="81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22 Imagen" descr="Logo Facultad de Educación 30 años.jpg"/>
              <p:cNvPicPr/>
              <p:nvPr/>
            </p:nvPicPr>
            <p:blipFill>
              <a:blip r:embed="rId2"/>
              <a:stretch/>
            </p:blipFill>
            <p:spPr>
              <a:xfrm>
                <a:off x="6725160" y="419040"/>
                <a:ext cx="2126520" cy="87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9" name="Imagen 2" descr="logo"/>
              <p:cNvPicPr/>
              <p:nvPr/>
            </p:nvPicPr>
            <p:blipFill>
              <a:blip r:embed="rId3"/>
              <a:stretch/>
            </p:blipFill>
            <p:spPr>
              <a:xfrm>
                <a:off x="3874320" y="594000"/>
                <a:ext cx="1883880" cy="506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285840" y="214200"/>
          <a:ext cx="8643960" cy="6431040"/>
        </p:xfrm>
        <a:graphic>
          <a:graphicData uri="http://schemas.openxmlformats.org/drawingml/2006/table">
            <a:tbl>
              <a:tblPr/>
              <a:tblGrid>
                <a:gridCol w="2216160"/>
                <a:gridCol w="3546360"/>
                <a:gridCol w="288144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Ámbitos esenciales de la evaluación de las competenc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Ámbito de la 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ien la h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c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ar los logros en el aprendizaje, y dar apoy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doc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ecer el grado de formación de las competencias al final de  determinados ciclos educativos, y tener esto en cuenta para efectos de titu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 equipo de docentes en la institución educ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O DE EVALUACIÓN EXTER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r las competencias para determinar su posible certificación extern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os externos independi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tal-ofi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r la calidad de la formación en un estado  o paí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os del estado o contratados por el Est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CIÓN o empr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ar el grado de idoneidad de los integrantes de una organiz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Área de gestión del talento hum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1 Proceso alternativo"/>
          <p:cNvSpPr/>
          <p:nvPr/>
        </p:nvSpPr>
        <p:spPr>
          <a:xfrm>
            <a:off x="1571760" y="2071800"/>
            <a:ext cx="6000480" cy="3143160"/>
          </a:xfrm>
          <a:prstGeom prst="flowChartAlternateProcess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4. ¿Qué es lo primero a tener en cuenta para evaluar las competenci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1 CuadroTexto"/>
          <p:cNvGrpSpPr/>
          <p:nvPr/>
        </p:nvGrpSpPr>
        <p:grpSpPr>
          <a:xfrm>
            <a:off x="974880" y="712800"/>
            <a:ext cx="7261200" cy="1122480"/>
            <a:chOff x="974880" y="712800"/>
            <a:chExt cx="7261200" cy="1122480"/>
          </a:xfrm>
        </p:grpSpPr>
        <p:pic>
          <p:nvPicPr>
            <p:cNvPr id="407" name="1 CuadroTexto" descr=""/>
            <p:cNvPicPr/>
            <p:nvPr/>
          </p:nvPicPr>
          <p:blipFill>
            <a:blip r:embed="rId1"/>
            <a:stretch/>
          </p:blipFill>
          <p:spPr>
            <a:xfrm>
              <a:off x="974880" y="712800"/>
              <a:ext cx="726120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1000080" y="741240"/>
              <a:ext cx="7215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3200" spc="-1" strike="noStrike">
                  <a:solidFill>
                    <a:srgbClr val="000000"/>
                  </a:solidFill>
                  <a:latin typeface="Calibri"/>
                </a:rPr>
                <a:t>ENFOQUE DE LAS COMPETENCIA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9" name="5 Diagrama" descr=""/>
          <p:cNvPicPr/>
          <p:nvPr/>
        </p:nvPicPr>
        <p:blipFill>
          <a:blip r:embed="rId2"/>
          <a:stretch/>
        </p:blipFill>
        <p:spPr>
          <a:xfrm>
            <a:off x="414360" y="1390680"/>
            <a:ext cx="846144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1 Diagrama" descr=""/>
          <p:cNvPicPr/>
          <p:nvPr/>
        </p:nvPicPr>
        <p:blipFill>
          <a:blip r:embed="rId1"/>
          <a:stretch/>
        </p:blipFill>
        <p:spPr>
          <a:xfrm>
            <a:off x="1841400" y="993600"/>
            <a:ext cx="7034400" cy="4870800"/>
          </a:xfrm>
          <a:prstGeom prst="rect">
            <a:avLst/>
          </a:prstGeom>
          <a:ln w="0">
            <a:noFill/>
          </a:ln>
        </p:spPr>
      </p:pic>
      <p:sp>
        <p:nvSpPr>
          <p:cNvPr id="411" name="AutoShape 2"/>
          <p:cNvSpPr/>
          <p:nvPr/>
        </p:nvSpPr>
        <p:spPr>
          <a:xfrm>
            <a:off x="3929040" y="1071720"/>
            <a:ext cx="247680" cy="420480"/>
          </a:xfrm>
          <a:prstGeom prst="rightArrow">
            <a:avLst>
              <a:gd name="adj1" fmla="val 50000"/>
              <a:gd name="adj2" fmla="val 281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3"/>
          <p:cNvSpPr/>
          <p:nvPr/>
        </p:nvSpPr>
        <p:spPr>
          <a:xfrm>
            <a:off x="6500880" y="1143000"/>
            <a:ext cx="214200" cy="357120"/>
          </a:xfrm>
          <a:prstGeom prst="rightArrow">
            <a:avLst>
              <a:gd name="adj1" fmla="val 50000"/>
              <a:gd name="adj2" fmla="val 281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6 Flecha izquierda"/>
          <p:cNvSpPr/>
          <p:nvPr/>
        </p:nvSpPr>
        <p:spPr>
          <a:xfrm>
            <a:off x="4000680" y="2571840"/>
            <a:ext cx="285480" cy="3571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7 Flecha izquierda"/>
          <p:cNvSpPr/>
          <p:nvPr/>
        </p:nvSpPr>
        <p:spPr>
          <a:xfrm>
            <a:off x="6500880" y="2500200"/>
            <a:ext cx="285840" cy="3574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10 Estrella de 7 puntas"/>
          <p:cNvSpPr/>
          <p:nvPr/>
        </p:nvSpPr>
        <p:spPr>
          <a:xfrm>
            <a:off x="214200" y="2000160"/>
            <a:ext cx="1643040" cy="2143080"/>
          </a:xfrm>
          <a:prstGeom prst="pie">
            <a:avLst/>
          </a:prstGeom>
          <a:solidFill>
            <a:srgbClr val="cc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PENSA-MIENTO COMPLEJ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13 Llamada rectangular redondeada"/>
          <p:cNvSpPr/>
          <p:nvPr/>
        </p:nvSpPr>
        <p:spPr>
          <a:xfrm>
            <a:off x="6500880" y="5572080"/>
            <a:ext cx="2357280" cy="1143000"/>
          </a:xfrm>
          <a:prstGeom prst="wedgeRoundRectCallout">
            <a:avLst>
              <a:gd name="adj1" fmla="val 6560"/>
              <a:gd name="adj2" fmla="val -81064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M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Formación integr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desde la pers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8 Rectángulo redondeado"/>
          <p:cNvSpPr/>
          <p:nvPr/>
        </p:nvSpPr>
        <p:spPr>
          <a:xfrm>
            <a:off x="1928880" y="285840"/>
            <a:ext cx="6858000" cy="5000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Persona humana en su tot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9 CuadroTexto"/>
          <p:cNvSpPr/>
          <p:nvPr/>
        </p:nvSpPr>
        <p:spPr>
          <a:xfrm>
            <a:off x="142920" y="285840"/>
            <a:ext cx="14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Enfoque compl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11 CuadroTexto"/>
          <p:cNvSpPr/>
          <p:nvPr/>
        </p:nvSpPr>
        <p:spPr>
          <a:xfrm>
            <a:off x="428760" y="6068880"/>
            <a:ext cx="53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Referencia: Tobón (2008). Competencias y ciclos propedéuticos. Cif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1 Proceso alternativo"/>
          <p:cNvSpPr/>
          <p:nvPr/>
        </p:nvSpPr>
        <p:spPr>
          <a:xfrm>
            <a:off x="1571760" y="2071800"/>
            <a:ext cx="6000480" cy="3143160"/>
          </a:xfrm>
          <a:prstGeom prst="flowChartAlternateProcess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5. ¿Cómo es la metodología de la evaluación de competenci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1 CuadroTexto"/>
          <p:cNvSpPr/>
          <p:nvPr/>
        </p:nvSpPr>
        <p:spPr>
          <a:xfrm>
            <a:off x="642960" y="773280"/>
            <a:ext cx="8143920" cy="581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Times New Roman"/>
              </a:rPr>
              <a:t>Pasos esenciales en la 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2 CuadroTexto"/>
          <p:cNvSpPr/>
          <p:nvPr/>
        </p:nvSpPr>
        <p:spPr>
          <a:xfrm>
            <a:off x="642960" y="188424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ASO 1: ¿Qué evalua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3 Flecha derecha"/>
          <p:cNvSpPr/>
          <p:nvPr/>
        </p:nvSpPr>
        <p:spPr>
          <a:xfrm>
            <a:off x="3500280" y="2170080"/>
            <a:ext cx="1571760" cy="28584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4 CuadroTexto"/>
          <p:cNvSpPr/>
          <p:nvPr/>
        </p:nvSpPr>
        <p:spPr>
          <a:xfrm>
            <a:off x="5429160" y="2787480"/>
            <a:ext cx="314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ara formar y valorar la idone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5 CuadroTexto"/>
          <p:cNvSpPr/>
          <p:nvPr/>
        </p:nvSpPr>
        <p:spPr>
          <a:xfrm>
            <a:off x="642960" y="3000240"/>
            <a:ext cx="214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ASO 2: ¿Para qué evalu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6 Flecha derecha"/>
          <p:cNvSpPr/>
          <p:nvPr/>
        </p:nvSpPr>
        <p:spPr>
          <a:xfrm>
            <a:off x="3500280" y="3002040"/>
            <a:ext cx="1571760" cy="28584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8 CuadroTexto"/>
          <p:cNvSpPr/>
          <p:nvPr/>
        </p:nvSpPr>
        <p:spPr>
          <a:xfrm>
            <a:off x="5429160" y="1785960"/>
            <a:ext cx="335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Saberes de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9 CuadroTexto"/>
          <p:cNvSpPr/>
          <p:nvPr/>
        </p:nvSpPr>
        <p:spPr>
          <a:xfrm>
            <a:off x="642960" y="407196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ASO 3: ¿Con qué criteri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10 Flecha derecha"/>
          <p:cNvSpPr/>
          <p:nvPr/>
        </p:nvSpPr>
        <p:spPr>
          <a:xfrm>
            <a:off x="3500280" y="4071960"/>
            <a:ext cx="1571760" cy="28584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11 CuadroTexto"/>
          <p:cNvSpPr/>
          <p:nvPr/>
        </p:nvSpPr>
        <p:spPr>
          <a:xfrm>
            <a:off x="5429160" y="3884760"/>
            <a:ext cx="30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Logros esperados en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12 CuadroTexto"/>
          <p:cNvSpPr/>
          <p:nvPr/>
        </p:nvSpPr>
        <p:spPr>
          <a:xfrm>
            <a:off x="642960" y="517032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ASO 4: ¿Con qué prueb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13 Flecha derecha"/>
          <p:cNvSpPr/>
          <p:nvPr/>
        </p:nvSpPr>
        <p:spPr>
          <a:xfrm>
            <a:off x="3500280" y="5286240"/>
            <a:ext cx="1571760" cy="28584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14 CuadroTexto"/>
          <p:cNvSpPr/>
          <p:nvPr/>
        </p:nvSpPr>
        <p:spPr>
          <a:xfrm>
            <a:off x="5500800" y="5072040"/>
            <a:ext cx="321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Evidencias concretas de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1 CuadroTexto"/>
          <p:cNvSpPr/>
          <p:nvPr/>
        </p:nvSpPr>
        <p:spPr>
          <a:xfrm>
            <a:off x="642960" y="500040"/>
            <a:ext cx="8072280" cy="52056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El proceso de evaluación paso a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2 CuadroTexto"/>
          <p:cNvSpPr/>
          <p:nvPr/>
        </p:nvSpPr>
        <p:spPr>
          <a:xfrm>
            <a:off x="571680" y="278604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ASO 6: ¿En qué momentos evalua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3 Flecha derecha"/>
          <p:cNvSpPr/>
          <p:nvPr/>
        </p:nvSpPr>
        <p:spPr>
          <a:xfrm>
            <a:off x="3500280" y="1785960"/>
            <a:ext cx="1571760" cy="28584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4 CuadroTexto"/>
          <p:cNvSpPr/>
          <p:nvPr/>
        </p:nvSpPr>
        <p:spPr>
          <a:xfrm>
            <a:off x="5429160" y="2644920"/>
            <a:ext cx="314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Diagnóstico, Formativa, Promoción y Acred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5 CuadroTexto"/>
          <p:cNvSpPr/>
          <p:nvPr/>
        </p:nvSpPr>
        <p:spPr>
          <a:xfrm>
            <a:off x="642960" y="402732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ASO 7: ¿Con qué estrategi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6 Flecha derecha"/>
          <p:cNvSpPr/>
          <p:nvPr/>
        </p:nvSpPr>
        <p:spPr>
          <a:xfrm>
            <a:off x="3500280" y="3071880"/>
            <a:ext cx="1571760" cy="28584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8 CuadroTexto"/>
          <p:cNvSpPr/>
          <p:nvPr/>
        </p:nvSpPr>
        <p:spPr>
          <a:xfrm>
            <a:off x="5429160" y="160956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Matrices de 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10 Flecha derecha"/>
          <p:cNvSpPr/>
          <p:nvPr/>
        </p:nvSpPr>
        <p:spPr>
          <a:xfrm>
            <a:off x="3500280" y="4286160"/>
            <a:ext cx="1571760" cy="28584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11 CuadroTexto"/>
          <p:cNvSpPr/>
          <p:nvPr/>
        </p:nvSpPr>
        <p:spPr>
          <a:xfrm>
            <a:off x="5500800" y="4027320"/>
            <a:ext cx="32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ruebas, portafolio, observación, simulacion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12 CuadroTexto"/>
          <p:cNvSpPr/>
          <p:nvPr/>
        </p:nvSpPr>
        <p:spPr>
          <a:xfrm>
            <a:off x="571680" y="135720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ASO 5: ¿Cómo determinar el nivel de aprendiza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19 CuadroTexto"/>
          <p:cNvSpPr/>
          <p:nvPr/>
        </p:nvSpPr>
        <p:spPr>
          <a:xfrm>
            <a:off x="571680" y="535788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ASO 8: ¿Cómo infor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20 Flecha derecha"/>
          <p:cNvSpPr/>
          <p:nvPr/>
        </p:nvSpPr>
        <p:spPr>
          <a:xfrm>
            <a:off x="3500280" y="5715000"/>
            <a:ext cx="1571760" cy="28584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21 CuadroTexto"/>
          <p:cNvSpPr/>
          <p:nvPr/>
        </p:nvSpPr>
        <p:spPr>
          <a:xfrm>
            <a:off x="5500800" y="53722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Logros, aspectos a mejorar y nivel de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2000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1 Bisel"/>
          <p:cNvSpPr/>
          <p:nvPr/>
        </p:nvSpPr>
        <p:spPr>
          <a:xfrm>
            <a:off x="1714680" y="1571760"/>
            <a:ext cx="6429240" cy="3786120"/>
          </a:xfrm>
          <a:prstGeom prst="bevel">
            <a:avLst>
              <a:gd name="adj" fmla="val 125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Paso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¿QUÉ EVALU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Respuesta: La competencia y sus sab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2"/>
          <p:cNvSpPr/>
          <p:nvPr/>
        </p:nvSpPr>
        <p:spPr>
          <a:xfrm>
            <a:off x="785880" y="214200"/>
            <a:ext cx="7500960" cy="78588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OMPETENCIA: ACTUACIÓN INTEGRAL CON IDONEIDAD Y É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74"/>
          <p:cNvSpPr/>
          <p:nvPr/>
        </p:nvSpPr>
        <p:spPr>
          <a:xfrm>
            <a:off x="1197000" y="1293840"/>
            <a:ext cx="6386400" cy="4406760"/>
          </a:xfrm>
          <a:prstGeom prst="triangle">
            <a:avLst>
              <a:gd name="adj" fmla="val 49995"/>
            </a:avLst>
          </a:prstGeom>
          <a:solidFill>
            <a:srgbClr val="fcfeb9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75"/>
          <p:cNvSpPr/>
          <p:nvPr/>
        </p:nvSpPr>
        <p:spPr>
          <a:xfrm rot="3391800">
            <a:off x="4588200" y="3258720"/>
            <a:ext cx="1886760" cy="393840"/>
          </a:xfrm>
          <a:prstGeom prst="rect">
            <a:avLst/>
          </a:prstGeom>
          <a:noFill/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ABER H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AutoShape 76"/>
          <p:cNvSpPr/>
          <p:nvPr/>
        </p:nvSpPr>
        <p:spPr>
          <a:xfrm>
            <a:off x="2492280" y="2131920"/>
            <a:ext cx="3721320" cy="2959200"/>
          </a:xfrm>
          <a:prstGeom prst="triangle">
            <a:avLst>
              <a:gd name="adj" fmla="val 49995"/>
            </a:avLst>
          </a:prstGeom>
          <a:solidFill>
            <a:srgbClr val="f2f2f2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Times New Roman"/>
              </a:rPr>
              <a:t>M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Times New Roman"/>
              </a:rPr>
              <a:t>COGN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77"/>
          <p:cNvSpPr/>
          <p:nvPr/>
        </p:nvSpPr>
        <p:spPr>
          <a:xfrm rot="18174000">
            <a:off x="2037240" y="3384720"/>
            <a:ext cx="2216160" cy="393840"/>
          </a:xfrm>
          <a:prstGeom prst="rect">
            <a:avLst/>
          </a:prstGeom>
          <a:noFill/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aber CONO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78"/>
          <p:cNvSpPr/>
          <p:nvPr/>
        </p:nvSpPr>
        <p:spPr>
          <a:xfrm>
            <a:off x="3644280" y="5256360"/>
            <a:ext cx="149508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ABER 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80"/>
          <p:cNvSpPr/>
          <p:nvPr/>
        </p:nvSpPr>
        <p:spPr>
          <a:xfrm flipV="1">
            <a:off x="1687680" y="1674720"/>
            <a:ext cx="1477800" cy="1828800"/>
          </a:xfrm>
          <a:prstGeom prst="line">
            <a:avLst/>
          </a:prstGeom>
          <a:ln w="22320">
            <a:solidFill>
              <a:srgbClr val="4f81b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81"/>
          <p:cNvSpPr/>
          <p:nvPr/>
        </p:nvSpPr>
        <p:spPr>
          <a:xfrm flipH="1" flipV="1">
            <a:off x="6048000" y="1827360"/>
            <a:ext cx="1336680" cy="1828800"/>
          </a:xfrm>
          <a:prstGeom prst="line">
            <a:avLst/>
          </a:prstGeom>
          <a:ln w="22320">
            <a:solidFill>
              <a:srgbClr val="4f81b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Group 82"/>
          <p:cNvGrpSpPr/>
          <p:nvPr/>
        </p:nvGrpSpPr>
        <p:grpSpPr>
          <a:xfrm>
            <a:off x="703440" y="4494240"/>
            <a:ext cx="591840" cy="1599840"/>
            <a:chOff x="703440" y="4494240"/>
            <a:chExt cx="591840" cy="1599840"/>
          </a:xfrm>
        </p:grpSpPr>
        <p:sp>
          <p:nvSpPr>
            <p:cNvPr id="457" name="Line 83"/>
            <p:cNvSpPr/>
            <p:nvPr/>
          </p:nvSpPr>
          <p:spPr>
            <a:xfrm flipH="1">
              <a:off x="703440" y="6087960"/>
              <a:ext cx="591840" cy="0"/>
            </a:xfrm>
            <a:prstGeom prst="line">
              <a:avLst/>
            </a:prstGeom>
            <a:ln w="22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84"/>
            <p:cNvSpPr/>
            <p:nvPr/>
          </p:nvSpPr>
          <p:spPr>
            <a:xfrm flipV="1">
              <a:off x="709560" y="5023440"/>
              <a:ext cx="0" cy="1070640"/>
            </a:xfrm>
            <a:prstGeom prst="line">
              <a:avLst/>
            </a:prstGeom>
            <a:ln w="22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85"/>
            <p:cNvSpPr/>
            <p:nvPr/>
          </p:nvSpPr>
          <p:spPr>
            <a:xfrm flipV="1">
              <a:off x="715320" y="4494240"/>
              <a:ext cx="495000" cy="541440"/>
            </a:xfrm>
            <a:prstGeom prst="line">
              <a:avLst/>
            </a:prstGeom>
            <a:ln w="22320">
              <a:solidFill>
                <a:srgbClr val="4f81bd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Group 86"/>
          <p:cNvGrpSpPr/>
          <p:nvPr/>
        </p:nvGrpSpPr>
        <p:grpSpPr>
          <a:xfrm>
            <a:off x="7877160" y="4494240"/>
            <a:ext cx="609120" cy="1612440"/>
            <a:chOff x="7877160" y="4494240"/>
            <a:chExt cx="609120" cy="1612440"/>
          </a:xfrm>
        </p:grpSpPr>
        <p:sp>
          <p:nvSpPr>
            <p:cNvPr id="461" name="Line 87"/>
            <p:cNvSpPr/>
            <p:nvPr/>
          </p:nvSpPr>
          <p:spPr>
            <a:xfrm>
              <a:off x="7877160" y="6100560"/>
              <a:ext cx="596520" cy="0"/>
            </a:xfrm>
            <a:prstGeom prst="line">
              <a:avLst/>
            </a:prstGeom>
            <a:ln w="22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88"/>
            <p:cNvSpPr/>
            <p:nvPr/>
          </p:nvSpPr>
          <p:spPr>
            <a:xfrm flipV="1">
              <a:off x="8480160" y="5027400"/>
              <a:ext cx="0" cy="1079280"/>
            </a:xfrm>
            <a:prstGeom prst="line">
              <a:avLst/>
            </a:prstGeom>
            <a:ln w="22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89"/>
            <p:cNvSpPr/>
            <p:nvPr/>
          </p:nvSpPr>
          <p:spPr>
            <a:xfrm flipH="1" flipV="1">
              <a:off x="7940520" y="4494240"/>
              <a:ext cx="545760" cy="545760"/>
            </a:xfrm>
            <a:prstGeom prst="line">
              <a:avLst/>
            </a:prstGeom>
            <a:ln w="22320">
              <a:solidFill>
                <a:srgbClr val="4f81bd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Text Box 90"/>
          <p:cNvSpPr/>
          <p:nvPr/>
        </p:nvSpPr>
        <p:spPr>
          <a:xfrm>
            <a:off x="3125880" y="5942160"/>
            <a:ext cx="2430000" cy="337320"/>
          </a:xfrm>
          <a:prstGeom prst="rect">
            <a:avLst/>
          </a:prstGeom>
          <a:solidFill>
            <a:srgbClr val="ffffc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ACTITUDES Y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92"/>
          <p:cNvSpPr/>
          <p:nvPr/>
        </p:nvSpPr>
        <p:spPr>
          <a:xfrm rot="3300000">
            <a:off x="4433760" y="3162600"/>
            <a:ext cx="431316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OCEDIMIENTO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93"/>
          <p:cNvSpPr/>
          <p:nvPr/>
        </p:nvSpPr>
        <p:spPr>
          <a:xfrm>
            <a:off x="99720" y="6500880"/>
            <a:ext cx="981720" cy="241200"/>
          </a:xfrm>
          <a:prstGeom prst="rect">
            <a:avLst/>
          </a:prstGeom>
          <a:noFill/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BON,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95"/>
          <p:cNvSpPr/>
          <p:nvPr/>
        </p:nvSpPr>
        <p:spPr>
          <a:xfrm rot="18468600">
            <a:off x="251640" y="2814480"/>
            <a:ext cx="465444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RENSIÓN Y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PROP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15 Rectángulo"/>
          <p:cNvSpPr/>
          <p:nvPr/>
        </p:nvSpPr>
        <p:spPr>
          <a:xfrm>
            <a:off x="1285920" y="1214280"/>
            <a:ext cx="6572160" cy="285768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2928960" y="4836960"/>
            <a:ext cx="2098800" cy="130680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7628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Calibri"/>
              </a:rPr>
              <a:t>Módu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0"/>
          <p:cNvSpPr/>
          <p:nvPr/>
        </p:nvSpPr>
        <p:spPr>
          <a:xfrm>
            <a:off x="1500120" y="2735280"/>
            <a:ext cx="2428920" cy="105084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7628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4"/>
          <p:cNvSpPr/>
          <p:nvPr/>
        </p:nvSpPr>
        <p:spPr>
          <a:xfrm>
            <a:off x="5226120" y="2714760"/>
            <a:ext cx="2060640" cy="107136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7628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Criterios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desemp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15"/>
          <p:cNvSpPr/>
          <p:nvPr/>
        </p:nvSpPr>
        <p:spPr>
          <a:xfrm rot="5400000">
            <a:off x="4333680" y="2976480"/>
            <a:ext cx="431640" cy="615960"/>
          </a:xfrm>
          <a:prstGeom prst="upArrow">
            <a:avLst>
              <a:gd name="adj1" fmla="val 50000"/>
              <a:gd name="adj2" fmla="val 53315"/>
            </a:avLst>
          </a:prstGeom>
          <a:solidFill>
            <a:srgbClr val="ffff99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19 Llamada ovalada"/>
          <p:cNvSpPr/>
          <p:nvPr/>
        </p:nvSpPr>
        <p:spPr>
          <a:xfrm>
            <a:off x="5500800" y="4714920"/>
            <a:ext cx="3429000" cy="1214280"/>
          </a:xfrm>
          <a:prstGeom prst="wedgeEllipseCallout">
            <a:avLst>
              <a:gd name="adj1" fmla="val -60615"/>
              <a:gd name="adj2" fmla="val -17393"/>
            </a:avLst>
          </a:prstGeom>
          <a:solidFill>
            <a:srgbClr val="f2f2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libri"/>
              </a:rPr>
              <a:t>Se recomienda una competencia específica por cada módu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20 CuadroTexto"/>
          <p:cNvSpPr/>
          <p:nvPr/>
        </p:nvSpPr>
        <p:spPr>
          <a:xfrm>
            <a:off x="7143840" y="6238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www.cife.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stobon@cife.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17 Flecha derecha"/>
          <p:cNvSpPr/>
          <p:nvPr/>
        </p:nvSpPr>
        <p:spPr>
          <a:xfrm rot="5400000">
            <a:off x="3464280" y="2250000"/>
            <a:ext cx="428400" cy="35748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1 CuadroTexto"/>
          <p:cNvSpPr/>
          <p:nvPr/>
        </p:nvSpPr>
        <p:spPr>
          <a:xfrm>
            <a:off x="3429000" y="1538280"/>
            <a:ext cx="2286000" cy="45972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1 CuadroTexto"/>
          <p:cNvSpPr/>
          <p:nvPr/>
        </p:nvSpPr>
        <p:spPr>
          <a:xfrm>
            <a:off x="2851200" y="324000"/>
            <a:ext cx="3244680" cy="45972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MODELO COMPL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20 Flecha derecha"/>
          <p:cNvSpPr/>
          <p:nvPr/>
        </p:nvSpPr>
        <p:spPr>
          <a:xfrm rot="5400000">
            <a:off x="3785760" y="4214880"/>
            <a:ext cx="428760" cy="571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22 Flecha derecha"/>
          <p:cNvSpPr/>
          <p:nvPr/>
        </p:nvSpPr>
        <p:spPr>
          <a:xfrm rot="5400000">
            <a:off x="5250240" y="2250000"/>
            <a:ext cx="428400" cy="35748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13 Rectángulo"/>
          <p:cNvSpPr/>
          <p:nvPr/>
        </p:nvSpPr>
        <p:spPr>
          <a:xfrm>
            <a:off x="214200" y="6407280"/>
            <a:ext cx="6500880" cy="3070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Referencia: Tobón (2008). Competencias y ciclos propedéuticos. Ci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71440" y="1643040"/>
            <a:ext cx="7000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Evaluación de las competencias.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El enfoque complej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1" name="Object 5"/>
          <p:cNvGraphicFramePr/>
          <p:nvPr/>
        </p:nvGraphicFramePr>
        <p:xfrm>
          <a:off x="5315040" y="714240"/>
          <a:ext cx="240012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5040" y="714240"/>
                    <a:ext cx="2400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4 CuadroTexto"/>
          <p:cNvSpPr/>
          <p:nvPr/>
        </p:nvSpPr>
        <p:spPr>
          <a:xfrm>
            <a:off x="2071800" y="4000680"/>
            <a:ext cx="4000320" cy="2350080"/>
          </a:xfrm>
          <a:prstGeom prst="rect">
            <a:avLst/>
          </a:prstGeom>
          <a:solidFill>
            <a:srgbClr val="ccffcc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Times New Roman"/>
              </a:rPr>
              <a:t>Sergio Tobón, Ph.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Correo: stobon@cife.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México DF: Anahu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Congreso Internacional de Compet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Julio 10, 11 y 12 de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5 Imagen" descr="logo Cife.JPG"/>
          <p:cNvPicPr/>
          <p:nvPr/>
        </p:nvPicPr>
        <p:blipFill>
          <a:blip r:embed="rId3"/>
          <a:stretch/>
        </p:blipFill>
        <p:spPr>
          <a:xfrm>
            <a:off x="2143080" y="701640"/>
            <a:ext cx="2454480" cy="798480"/>
          </a:xfrm>
          <a:prstGeom prst="rect">
            <a:avLst/>
          </a:prstGeom>
          <a:ln w="0">
            <a:noFill/>
          </a:ln>
        </p:spPr>
      </p:pic>
      <p:sp>
        <p:nvSpPr>
          <p:cNvPr id="385" name="6 CuadroTexto"/>
          <p:cNvSpPr/>
          <p:nvPr/>
        </p:nvSpPr>
        <p:spPr>
          <a:xfrm>
            <a:off x="6643800" y="4000680"/>
            <a:ext cx="2071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www.cife.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www.viveduc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www.exiccom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www.rici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380880" y="714240"/>
          <a:ext cx="8359920" cy="5799240"/>
        </p:xfrm>
        <a:graphic>
          <a:graphicData uri="http://schemas.openxmlformats.org/drawingml/2006/table">
            <a:tbl>
              <a:tblPr/>
              <a:tblGrid>
                <a:gridCol w="8359920"/>
              </a:tblGrid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ROBLEMA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¿Cómo crear proyectos sociales o empresariales que resuelvan los problemas de forma sistémica, y que se sostengan en el tiempo afrontando las dificultades, con base en el proyecto ético de vida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etencia: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rendimi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render proyectos creativos e innovadores, que contribuyan a identificar, plantear y resolver los problemas sociales y productivos , con base en metodologías sistémicas, que tengan en cuenta el contexto, de acuerdo con un determinado enfoque y metodología de investigació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82" name="2 CuadroTexto"/>
          <p:cNvSpPr/>
          <p:nvPr/>
        </p:nvSpPr>
        <p:spPr>
          <a:xfrm>
            <a:off x="804960" y="142920"/>
            <a:ext cx="7500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Ejemplo de competencia. Enfoque Compl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1 Bisel"/>
          <p:cNvSpPr/>
          <p:nvPr/>
        </p:nvSpPr>
        <p:spPr>
          <a:xfrm>
            <a:off x="1571760" y="1571760"/>
            <a:ext cx="6429240" cy="3786120"/>
          </a:xfrm>
          <a:prstGeom prst="bevel">
            <a:avLst>
              <a:gd name="adj" fmla="val 125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Paso 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¿PARA QUÉ EVALU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Respuesta: Formación integ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1 Diagrama" descr=""/>
          <p:cNvPicPr/>
          <p:nvPr/>
        </p:nvPicPr>
        <p:blipFill>
          <a:blip r:embed="rId1"/>
          <a:stretch/>
        </p:blipFill>
        <p:spPr>
          <a:xfrm>
            <a:off x="1517760" y="324000"/>
            <a:ext cx="6175440" cy="6321240"/>
          </a:xfrm>
          <a:prstGeom prst="rect">
            <a:avLst/>
          </a:prstGeom>
          <a:ln w="0">
            <a:noFill/>
          </a:ln>
        </p:spPr>
      </p:pic>
      <p:sp>
        <p:nvSpPr>
          <p:cNvPr id="485" name="2 Elipse"/>
          <p:cNvSpPr/>
          <p:nvPr/>
        </p:nvSpPr>
        <p:spPr>
          <a:xfrm>
            <a:off x="214200" y="2571840"/>
            <a:ext cx="3143520" cy="1928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1f497d"/>
                </a:solidFill>
                <a:latin typeface="Calibri"/>
              </a:rPr>
              <a:t>Evaluar la competencia de emp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AutoShape 15"/>
          <p:cNvSpPr/>
          <p:nvPr/>
        </p:nvSpPr>
        <p:spPr>
          <a:xfrm rot="5400000">
            <a:off x="3200760" y="3156840"/>
            <a:ext cx="1071720" cy="615960"/>
          </a:xfrm>
          <a:prstGeom prst="upArrow">
            <a:avLst>
              <a:gd name="adj1" fmla="val 50000"/>
              <a:gd name="adj2" fmla="val 53296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Calibri"/>
              </a:rPr>
              <a:t>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1 Bisel"/>
          <p:cNvSpPr/>
          <p:nvPr/>
        </p:nvSpPr>
        <p:spPr>
          <a:xfrm>
            <a:off x="1714680" y="1643040"/>
            <a:ext cx="6429240" cy="3786120"/>
          </a:xfrm>
          <a:prstGeom prst="bevel">
            <a:avLst>
              <a:gd name="adj" fmla="val 125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Paso 3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¿CON QUÉ CRITERI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Respuesta: Resultados esperados en la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44ac"/>
                </a:solidFill>
                <a:latin typeface="Calibri"/>
              </a:rPr>
              <a:t>Pautas para establecer los crite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485640" y="1428840"/>
          <a:ext cx="8229600" cy="475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abe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Los criterios deben abordar los diferentes saberes de la competencia en lo posi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ompa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Los criterios deben comparar un qué con una condición de referen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lar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Los criterios deben ser fácilmente comprensibles y cla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ertinen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Los criterios deben ser pertinentes al desempeño profesional idón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14480" y="35676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  <a:ea typeface="Arial"/>
              </a:rPr>
              <a:t>Ejemplo de </a:t>
            </a:r>
            <a:r>
              <a:rPr b="1" lang="es-CO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criterios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  <a:ea typeface="Arial"/>
              </a:rPr>
              <a:t> en la competencia de emprendimi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3 CuadroTexto"/>
          <p:cNvSpPr/>
          <p:nvPr/>
        </p:nvSpPr>
        <p:spPr>
          <a:xfrm>
            <a:off x="1000080" y="1881360"/>
            <a:ext cx="7358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1 Tiene retos personales en campo del emprendimiento, los cuales son coherentes con sus valores, las oportunidades del medio y su proyecto ético de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2 Argumenta de forma clara, coherente y pertinente su idea de proyecto, y sabe ofrecerlo a las personas y organizaciones a través de una estrategia perti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3 Crea o adapta un proyecto de emprendimiento en el campo social o empresarial cuyas metas, estrategias y planificación de recursos son coherentes entre sí, y responden a un reto o probl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1 Bisel"/>
          <p:cNvSpPr/>
          <p:nvPr/>
        </p:nvSpPr>
        <p:spPr>
          <a:xfrm>
            <a:off x="1714680" y="1571760"/>
            <a:ext cx="6429240" cy="3786120"/>
          </a:xfrm>
          <a:prstGeom prst="bevel">
            <a:avLst>
              <a:gd name="adj" fmla="val 125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Paso 4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¿CON QUÉ EVIDENCI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Respuesta: Pruebas concretas de aprendizaje que presentan los estudi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826920" y="831960"/>
            <a:ext cx="788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¿Por qué son valiosa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Son pruebas que presentan los estudiantes  para demostrar sus competenci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Permiten valorar los criter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Permiten organizar el proceso de aprendiza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Dan claridad a los estudiantes frente a cómo deben demostrar su aprendiza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Permiten documentar el aprendizaje de los estudiantes a través de un portafol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928800" y="717480"/>
            <a:ext cx="80010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Century Gothic"/>
              </a:rPr>
              <a:t>Evide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f0000"/>
                </a:solidFill>
                <a:latin typeface="Calibri"/>
              </a:rPr>
              <a:t>Tipos de evidenci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457200" y="714240"/>
          <a:ext cx="8229600" cy="6004080"/>
        </p:xfrm>
        <a:graphic>
          <a:graphicData uri="http://schemas.openxmlformats.org/drawingml/2006/table">
            <a:tbl>
              <a:tblPr/>
              <a:tblGrid>
                <a:gridCol w="3114720"/>
                <a:gridCol w="5114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1b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Ejempl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1b6f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videncia de CONOCI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Pruebas escritas abier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Pruebas escritas cerr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Pruebas or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Ensay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videncias de HA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Audios y vide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Testimon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Registro de observ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videncias del 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Registro de actitu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Pruebas de actitu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Autovalo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Sociod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videncias de PRODU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Documentos de produ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Proy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Informes fin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Obje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Cre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Servicios pres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4296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000000"/>
                </a:solidFill>
                <a:latin typeface="Calibri"/>
              </a:rPr>
              <a:t>Ejemplo de </a:t>
            </a:r>
            <a:r>
              <a:rPr b="1" lang="es-CO" sz="2500" spc="-1" strike="noStrike" u="sng">
                <a:solidFill>
                  <a:srgbClr val="000000"/>
                </a:solidFill>
                <a:uFillTx/>
                <a:latin typeface="Calibri"/>
              </a:rPr>
              <a:t>evidencias</a:t>
            </a:r>
            <a:r>
              <a:rPr b="0" lang="es-CO" sz="2500" spc="-1" strike="noStrike">
                <a:solidFill>
                  <a:srgbClr val="000000"/>
                </a:solidFill>
                <a:latin typeface="Calibri"/>
              </a:rPr>
              <a:t> en la competencia de emprendimient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500040" y="1379520"/>
          <a:ext cx="8286840" cy="4907160"/>
        </p:xfrm>
        <a:graphic>
          <a:graphicData uri="http://schemas.openxmlformats.org/drawingml/2006/table">
            <a:tbl>
              <a:tblPr/>
              <a:tblGrid>
                <a:gridCol w="4643640"/>
                <a:gridCol w="2143080"/>
                <a:gridCol w="1500120"/>
              </a:tblGrid>
              <a:tr h="35100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rite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videnc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nde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40292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 Tiene retos personales en campo del emprendimiento, los cuales son coherentes con sus valores, las oportunidades del medio y su proyecto ético de vid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e de planeación del proyecto ético de 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40292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2 Argumenta de forma clara y coherente su idea de proyecto, y sabe ofrecerlo a las personas y organizaciones a través de una estrategia pertine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istro del proceso de argumentación oral en públ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75356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3 Crea o adapta un proyecto de emprendimiento en el campo social o empresarial cuyas metas, estrategias y planificación de recursos son coherentes entre sí, y responden a un reto o problem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e de un proyecto de emprendi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5"/>
          <p:cNvSpPr/>
          <p:nvPr/>
        </p:nvSpPr>
        <p:spPr>
          <a:xfrm>
            <a:off x="533520" y="569880"/>
            <a:ext cx="8229600" cy="6426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Verdana"/>
              </a:rPr>
              <a:t>Sugerencias de t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8660880" y="6361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9"/>
          <p:cNvSpPr/>
          <p:nvPr/>
        </p:nvSpPr>
        <p:spPr>
          <a:xfrm>
            <a:off x="0" y="6380280"/>
            <a:ext cx="2209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Tobón,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Cife.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6 CuadroTexto"/>
          <p:cNvSpPr/>
          <p:nvPr/>
        </p:nvSpPr>
        <p:spPr>
          <a:xfrm>
            <a:off x="914400" y="2239920"/>
            <a:ext cx="769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Vaya reflexionando y tome nota de los aspectos destacados de esta conferencia. Esto le permitirá mejorar su compren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gerencia: elabore esquemas y mapas con sus reflex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iense en posibles aplicaciones de esta conferencia con sus estudia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99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Continuación ejemplo de evidenci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642960" y="1233360"/>
          <a:ext cx="8286840" cy="4837320"/>
        </p:xfrm>
        <a:graphic>
          <a:graphicData uri="http://schemas.openxmlformats.org/drawingml/2006/table">
            <a:tbl>
              <a:tblPr/>
              <a:tblGrid>
                <a:gridCol w="4572000"/>
                <a:gridCol w="2143080"/>
                <a:gridCol w="1571760"/>
              </a:tblGrid>
              <a:tr h="98100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riter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videnci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ndera-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75356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4 Argumenta de forma precisa los conceptos de “negocio”, “proyecto social”, “emprendimiento” y “creatividad” con base un determinado mapa gráfic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e escrito de Cartografía Conceptual sobre conceptos de emprendi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0420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5 Ejecuta y evalúa un proyecto de emprendimiento (o una de sus partes) siguiendo un análisis prospectivo, manejando de forma estratégica las situaciones de incertidumbre y las dificultad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e de ejecución de un proyecto de emprendimien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1 Bisel"/>
          <p:cNvSpPr/>
          <p:nvPr/>
        </p:nvSpPr>
        <p:spPr>
          <a:xfrm>
            <a:off x="1714680" y="1571760"/>
            <a:ext cx="6429240" cy="3786120"/>
          </a:xfrm>
          <a:prstGeom prst="bevel">
            <a:avLst>
              <a:gd name="adj" fmla="val 125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Paso 5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¿CÓMO DETERMINAR EL NIVEL DE APRENDIZAJ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Respuesta: Mediante matrices de evalu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8564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Componentes de las Matrices de evalu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485640" y="1571760"/>
          <a:ext cx="8229600" cy="4572000"/>
        </p:xfrm>
        <a:graphic>
          <a:graphicData uri="http://schemas.openxmlformats.org/drawingml/2006/table">
            <a:tbl>
              <a:tblPr/>
              <a:tblGrid>
                <a:gridCol w="3186360"/>
                <a:gridCol w="5043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ompon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ompeten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s la competencia a evalu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. Criteri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on los criterios que se tendrán en cuenta en el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. Evidenci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on las pruebas a tener en cu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. Niveles de log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an cuenta de niveles de aprendizaje por criteri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. Puntos o porcenta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ndican la cuantificación de cada criterio y de cada nivel de log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4" name=""/>
          <p:cNvGraphicFramePr/>
          <p:nvPr/>
        </p:nvGraphicFramePr>
        <p:xfrm>
          <a:off x="357120" y="88920"/>
          <a:ext cx="8572680" cy="6697800"/>
        </p:xfrm>
        <a:graphic>
          <a:graphicData uri="http://schemas.openxmlformats.org/drawingml/2006/table">
            <a:tbl>
              <a:tblPr/>
              <a:tblGrid>
                <a:gridCol w="1827360"/>
                <a:gridCol w="1414440"/>
                <a:gridCol w="1371600"/>
                <a:gridCol w="1481040"/>
                <a:gridCol w="1406520"/>
                <a:gridCol w="1071720"/>
              </a:tblGrid>
              <a:tr h="1641600">
                <a:tc gridSpan="6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JEMPLO DE MATRIZ PARA UN CRITE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TENCIA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render proyectos creativos e innovadores, que contribuyan a identificar, plantear y resolver los problemas sociales y productivos , con base en metodologías sistémicas, que tengan en cuenta el contexto, de acuerdo con un determinado enfoque y metodología de investiga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716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iedades de c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te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 evidenc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 excele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 c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vel Medio de C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be mejora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u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904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 Crea o adapta un proyecto de emprendimiento en el campo social o empresarial cuyas metas, estrategias y planificación de recursos son coherentes entre sí, y responden a un reto o problem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1. Evidencia de producto: Proyecto en papel termin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proyecto es factible de implementarse acorde con la planeación de recursos, el talento humano disponible y el cronograma estableci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productos que se esperan del proyectos son altamente pertinentes al contexto, y pueden asegurar el éxito del proyec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componentes del proyecto están bien redactados y completos acorde con lo esperado en cada apartado del proyecto. Hay coherencia entre todos los compon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proyecto tiene los componentes esperados y se relaciona con el emprendimien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1 Bisel"/>
          <p:cNvSpPr/>
          <p:nvPr/>
        </p:nvSpPr>
        <p:spPr>
          <a:xfrm>
            <a:off x="1714680" y="1571760"/>
            <a:ext cx="6429240" cy="3786120"/>
          </a:xfrm>
          <a:prstGeom prst="bevel">
            <a:avLst>
              <a:gd name="adj" fmla="val 125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Paso 6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¿EN QUÉ MOMENTOS SE EVALÚ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Respuesta: Al inicio, durante y al final del 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0000"/>
                </a:solidFill>
                <a:latin typeface="Calibri"/>
              </a:rPr>
              <a:t>Momentos de la EVALU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395280" y="714240"/>
          <a:ext cx="8605800" cy="5943600"/>
        </p:xfrm>
        <a:graphic>
          <a:graphicData uri="http://schemas.openxmlformats.org/drawingml/2006/table">
            <a:tbl>
              <a:tblPr/>
              <a:tblGrid>
                <a:gridCol w="2668680"/>
                <a:gridCol w="59371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ipo de evalu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aracteríst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l inicio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IAGNÓST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Evalúa saberes previ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Se pueden acreditar competenci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urant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ORMA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e da en las actividades d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prendizaje con base en evidenci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l final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ROMO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Se determina el grado de desarrollo de la competen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Se informa al estudiante del aprendiza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n el egresado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ERTIFIC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Se acredita académicamente la competencia en los estudian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Opcionalmente, se puede certificar la competencia desde un centro exte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287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Proceso de la evalu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57280" y="1246320"/>
          <a:ext cx="8229600" cy="4968720"/>
        </p:xfrm>
        <a:graphic>
          <a:graphicData uri="http://schemas.openxmlformats.org/drawingml/2006/table">
            <a:tbl>
              <a:tblPr/>
              <a:tblGrid>
                <a:gridCol w="3186000"/>
                <a:gridCol w="5043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F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aracterísti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UTO-VALO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La hace la propia perso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Es metacogni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O-VALO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La hacen los pa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Es en equi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HETERO-VALO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La hace el docen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En ocasiones la hacen exper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NTER-VALO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Integra las anterio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Se hace desde diferentes ámbi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1 Bisel"/>
          <p:cNvSpPr/>
          <p:nvPr/>
        </p:nvSpPr>
        <p:spPr>
          <a:xfrm>
            <a:off x="1714680" y="1571760"/>
            <a:ext cx="6429240" cy="3786120"/>
          </a:xfrm>
          <a:prstGeom prst="bevel">
            <a:avLst>
              <a:gd name="adj" fmla="val 125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Paso 7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¿CON QUÉ ESTRATEGIAS  EVALÚ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Respuesta: Con diversas estrategias, como pruebas, portafoli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1 Rectángulo"/>
          <p:cNvSpPr/>
          <p:nvPr/>
        </p:nvSpPr>
        <p:spPr>
          <a:xfrm>
            <a:off x="2143080" y="390600"/>
            <a:ext cx="5572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Estrategias de evalu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3 Diagrama" descr=""/>
          <p:cNvPicPr/>
          <p:nvPr/>
        </p:nvPicPr>
        <p:blipFill>
          <a:blip r:embed="rId1"/>
          <a:stretch/>
        </p:blipFill>
        <p:spPr>
          <a:xfrm>
            <a:off x="407880" y="1279440"/>
            <a:ext cx="846792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1 Bisel"/>
          <p:cNvSpPr/>
          <p:nvPr/>
        </p:nvSpPr>
        <p:spPr>
          <a:xfrm>
            <a:off x="1714680" y="1571760"/>
            <a:ext cx="6429240" cy="3786120"/>
          </a:xfrm>
          <a:prstGeom prst="bevel">
            <a:avLst>
              <a:gd name="adj" fmla="val 125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PASO 8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¿CÓMO INFORM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Respuesta: Se retroalimenta con base en el nivel de aprendizaje alcanzado, los logros y los aspectos a mejo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4"/>
          <p:cNvSpPr/>
          <p:nvPr/>
        </p:nvSpPr>
        <p:spPr>
          <a:xfrm>
            <a:off x="1071720" y="1330200"/>
            <a:ext cx="742932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¿Qué es la evaluación de las competenci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¿Cuáles son los principios esenciales en la evaluación de las competenci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¿Cuáles son los ámbitos de la evaluación de las competenci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4. ¿Qué es lo primero a tener en cuenta para evaluar las competenci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5. ¿Cómo es la metodología de la evaluación de competenci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6. ¿Cómo puedo continuar mi formación en evalua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1123920" y="415800"/>
            <a:ext cx="71629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Índ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71280" y="635796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obón, Cif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Nivel de aprendizaje, logros y aspectos a mejor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485640" y="1978200"/>
          <a:ext cx="8229600" cy="4022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IVEL DE APRENDIZA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LOG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SPECTOS A MEJO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ivel alcanzado a partir de la matriz de evalu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Logros obtenidos teniendo como base la Matriz de Evalu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spectos en los cuales debe mejorar la perso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85640" y="356760"/>
            <a:ext cx="8229600" cy="11430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Ejemplo</a:t>
            </a:r>
            <a:br>
              <a:rPr sz="3200"/>
            </a:b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Competencia de emprendimi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485640" y="1785960"/>
          <a:ext cx="8229600" cy="4541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ffc000"/>
                          </a:solidFill>
                          <a:latin typeface="Corbel"/>
                        </a:rPr>
                        <a:t>Estudiante: Carlos Ocam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13867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IVEL DE APRENDIZA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LOG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SPECTOS A MEJO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ivel IV de la compe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orcentaje de logro: 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ota: 8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royecto creativo de emprendimi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lanear de forma más organizada los recursos del proyecto de emprendimi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1 CuadroTexto"/>
          <p:cNvSpPr/>
          <p:nvPr/>
        </p:nvSpPr>
        <p:spPr>
          <a:xfrm>
            <a:off x="642960" y="1146240"/>
            <a:ext cx="7858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Tobón, Sergio (2006). Formación basada en competencias. Bogotá: Eco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Tobón, Sergio, García-Fraile, Juan Antonio, Rial, Antonio y Carretero,  Miguel (2006). Competencias, calidad y educación superior. Bogotá: Magiste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Tobón, S. y otros. (2006). Competencias, calidad y educación superior. Bogotá: Magiste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Tobón, S. y otros. (2006). El enfoque de las competencias en la educación superior.  Madrid: UC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Tobón, Sergio (2008). Diseño sistémico de módulos en la educación superior. Bogotá: Cif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 u="sng">
                <a:solidFill>
                  <a:srgbClr val="000000"/>
                </a:solidFill>
                <a:uFillTx/>
                <a:latin typeface="Calibri"/>
              </a:rPr>
              <a:t>Tobón, Sergio (2008) Gestión curricular y ciclos propedéuticos por competencias. El enfoque complejo en la educación superior. Bogotá: ECOE. Versión e-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 u="sng">
                <a:solidFill>
                  <a:srgbClr val="000000"/>
                </a:solidFill>
                <a:uFillTx/>
                <a:latin typeface="Calibri"/>
              </a:rPr>
              <a:t>García Fraile, J.A., Tobón, S., et al. (2008). Un nuevo modelo de formación para el siglo XXI. La enseñanza basada en competencias. Barcelona: Davin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2 CuadroTexto"/>
          <p:cNvSpPr/>
          <p:nvPr/>
        </p:nvSpPr>
        <p:spPr>
          <a:xfrm>
            <a:off x="785880" y="428760"/>
            <a:ext cx="7500960" cy="4597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GUNAS REFERENCIAS BIBLIOGRÁ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5"/>
          <p:cNvSpPr/>
          <p:nvPr/>
        </p:nvSpPr>
        <p:spPr>
          <a:xfrm>
            <a:off x="533520" y="569880"/>
            <a:ext cx="8229600" cy="6426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Verdana"/>
              </a:rPr>
              <a:t>Sugerencias de t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8660880" y="6361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0" y="6380280"/>
            <a:ext cx="2209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Tobón,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Cife.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6 CuadroTexto"/>
          <p:cNvSpPr/>
          <p:nvPr/>
        </p:nvSpPr>
        <p:spPr>
          <a:xfrm>
            <a:off x="914400" y="1606680"/>
            <a:ext cx="7696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vise sus notas y reflexione sobre ellas. Esto le permitirá mejorar su comprens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 sugiere realizar una matriz de evaluación de competencias para una unidad de aprendizaje. Esto puede ser en equi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sulte los libros de referencia en cada uno de los temas para tener una mayor profundi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inalmente, le invitamos a continuar su formación a través de nuestro instituto Cife u otras instituciones como Ricie y Vivedu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1 Rectángulo"/>
          <p:cNvSpPr/>
          <p:nvPr/>
        </p:nvSpPr>
        <p:spPr>
          <a:xfrm>
            <a:off x="1143000" y="1525680"/>
            <a:ext cx="7929720" cy="51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cife.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Sergio Tob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stobon@cife.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direc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Juan Antonio García Fra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dad Compluten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Mad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2 Rectángulo redondeado"/>
          <p:cNvSpPr/>
          <p:nvPr/>
        </p:nvSpPr>
        <p:spPr>
          <a:xfrm>
            <a:off x="4714920" y="1382760"/>
            <a:ext cx="3929040" cy="4714920"/>
          </a:xfrm>
          <a:custGeom>
            <a:avLst/>
            <a:gdLst>
              <a:gd name="textAreaLeft" fmla="*/ 191520 w 3929040"/>
              <a:gd name="textAreaRight" fmla="*/ 3737520 w 3929040"/>
              <a:gd name="textAreaTop" fmla="*/ 191520 h 4714920"/>
              <a:gd name="textAreaBottom" fmla="*/ 4523400 h 4714920"/>
            </a:gdLst>
            <a:ahLst/>
            <a:rect l="textAreaLeft" t="textAreaTop" r="textAreaRight" b="textAreaBottom"/>
            <a:pathLst>
              <a:path w="21600" h="25920">
                <a:moveTo>
                  <a:pt x="3600" y="0"/>
                </a:moveTo>
                <a:arcTo wR="3600" hR="3600" stAng="16200000" swAng="-5400000"/>
                <a:lnTo>
                  <a:pt x="0" y="22320"/>
                </a:lnTo>
                <a:arcTo wR="3600" hR="3600" stAng="10800000" swAng="-5400000"/>
                <a:lnTo>
                  <a:pt x="18000" y="259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Cife es una organización centrada en la investigación sobre currículo, didáctica y evaluación de competencias. Ofrecemos programas especializados de formación así como libros y materiales sobre estos te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Picture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8040" y="285840"/>
            <a:ext cx="33210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1 Proceso alternativo"/>
          <p:cNvSpPr/>
          <p:nvPr/>
        </p:nvSpPr>
        <p:spPr>
          <a:xfrm>
            <a:off x="1571760" y="2071800"/>
            <a:ext cx="6000480" cy="314316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0000"/>
                </a:solidFill>
                <a:latin typeface="Calibri"/>
              </a:rPr>
              <a:t>1. ¿Qué es la evaluación de las competenci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2556000" y="428760"/>
            <a:ext cx="5413320" cy="94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ALUACIÓN POR COMPE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3714840" y="1936800"/>
            <a:ext cx="50353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85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 EL PROCESO mediante el cual se recopilan EVIDENCIAS y se realiza un JUICIO o dictamen de esas evidencias teniendo en cuenta CRITERIOS preestablecidos, para dar finalmente una RETROALIMENTACIÓN que busque mejorar la IDONE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Picture 5" descr="BS00503_"/>
          <p:cNvPicPr/>
          <p:nvPr/>
        </p:nvPicPr>
        <p:blipFill>
          <a:blip r:embed="rId1"/>
          <a:stretch/>
        </p:blipFill>
        <p:spPr>
          <a:xfrm>
            <a:off x="357120" y="2589120"/>
            <a:ext cx="2725920" cy="274320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6"/>
          <p:cNvSpPr/>
          <p:nvPr/>
        </p:nvSpPr>
        <p:spPr>
          <a:xfrm>
            <a:off x="133200" y="4875120"/>
            <a:ext cx="1295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rite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2276640" y="4835520"/>
            <a:ext cx="12952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vi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8"/>
          <p:cNvSpPr/>
          <p:nvPr/>
        </p:nvSpPr>
        <p:spPr>
          <a:xfrm>
            <a:off x="1143000" y="1882800"/>
            <a:ext cx="129528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JUICIO EXPE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7 Rectángulo"/>
          <p:cNvSpPr/>
          <p:nvPr/>
        </p:nvSpPr>
        <p:spPr>
          <a:xfrm>
            <a:off x="785880" y="6068880"/>
            <a:ext cx="7929360" cy="6426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Referencia: Tobón, S. (2006). Competencias, calidad y educación superior. Magiste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1 Proceso alternativo"/>
          <p:cNvSpPr/>
          <p:nvPr/>
        </p:nvSpPr>
        <p:spPr>
          <a:xfrm>
            <a:off x="1571760" y="2071800"/>
            <a:ext cx="6000480" cy="314316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2. ¿Cuáles son los principios esenciales en la evaluación de las competenci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1 Diagrama" descr=""/>
          <p:cNvPicPr/>
          <p:nvPr/>
        </p:nvPicPr>
        <p:blipFill>
          <a:blip r:embed="rId1"/>
          <a:stretch/>
        </p:blipFill>
        <p:spPr>
          <a:xfrm>
            <a:off x="-1865160" y="324000"/>
            <a:ext cx="12661920" cy="63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1 Proceso alternativo"/>
          <p:cNvSpPr/>
          <p:nvPr/>
        </p:nvSpPr>
        <p:spPr>
          <a:xfrm>
            <a:off x="1571760" y="2071800"/>
            <a:ext cx="6000480" cy="314316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3. ¿Cuáles son los ámbitos esenciales de la evaluación de las competenci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1T16:52:59Z</dcterms:created>
  <dc:creator>Dr. Sergio Tobón</dc:creator>
  <dc:description>A lo largo de 10 años, Servicios Educativos Anáhuac, ha contribuido a impulsar la educación pública y privada en México, persiguiendo durante ese tiempo el incremento permanente de la calidad de la educación básica, a través de programas de innovación y vanguardia educativa.</dc:description>
  <cp:keywords>Evaluación por Competencias</cp:keywords>
  <dc:language>en-US</dc:language>
  <cp:lastModifiedBy>User</cp:lastModifiedBy>
  <cp:lastPrinted>2002-08-27T11:53:41Z</cp:lastPrinted>
  <dcterms:modified xsi:type="dcterms:W3CDTF">2009-02-25T05:32:00Z</dcterms:modified>
  <cp:revision>2127</cp:revision>
  <dc:subject>Congreso Internacional</dc:subject>
  <dc:title>Evaluación por Competencias</dc:title>
</cp:coreProperties>
</file>